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864-54AF-4050-A7AC-342FDF6D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AC8-3C53-40B4-B83D-DC11B78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BE1-AF7B-455D-8D3F-249C2323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A69-CE2F-4317-8378-9F73018F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F53-E6D3-43CD-B3F5-0F7E5AC0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519-93A4-495E-AE3E-008715B9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38F-2437-439A-9461-292F0FA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F07-F34D-4FEE-9186-DBACC22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D94-A373-4FB3-84C0-090C794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B01-2881-4F26-99F0-D9749F3A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926-51A2-47F5-9748-70AA013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D9F-F649-49CA-A7F8-A202B56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317-F71A-4CAB-B0C5-040B94A5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Opener: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Solve the following expressions using the order of op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 x 8 + 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.)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4 x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+ 4 – 7 x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)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9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3680" y="2276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038" y="6325"/>
                </a:moveTo>
                <a:lnTo>
                  <a:pt x="11038" y="63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8080" y="2911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080" y="8086"/>
                </a:moveTo>
                <a:lnTo>
                  <a:pt x="12080" y="8086"/>
                </a:lnTo>
              </a:path>
              <a:path w="1" h="1">
                <a:moveTo>
                  <a:pt x="12080" y="8086"/>
                </a:moveTo>
                <a:lnTo>
                  <a:pt x="12080" y="808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06920" y="2340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99" y="6499"/>
                </a:moveTo>
                <a:lnTo>
                  <a:pt x="12799" y="64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5040" y="2544840"/>
            <a:ext cx="1206720" cy="420480"/>
          </a:xfrm>
          <a:custGeom>
            <a:avLst/>
            <a:gdLst/>
            <a:ahLst/>
            <a:rect l="l" t="t" r="r" b="b"/>
            <a:pathLst>
              <a:path w="3349" h="1167">
                <a:moveTo>
                  <a:pt x="7590" y="7069"/>
                </a:moveTo>
                <a:cubicBezTo>
                  <a:pt x="7569" y="7172"/>
                  <a:pt x="7551" y="7270"/>
                  <a:pt x="7516" y="7367"/>
                </a:cubicBezTo>
                <a:cubicBezTo>
                  <a:pt x="7671" y="7410"/>
                  <a:pt x="7848" y="7394"/>
                  <a:pt x="8012" y="7417"/>
                </a:cubicBezTo>
                <a:cubicBezTo>
                  <a:pt x="8159" y="7437"/>
                  <a:pt x="8302" y="7474"/>
                  <a:pt x="8434" y="7516"/>
                </a:cubicBezTo>
                <a:cubicBezTo>
                  <a:pt x="8510" y="7540"/>
                  <a:pt x="8598" y="7555"/>
                  <a:pt x="8682" y="7541"/>
                </a:cubicBezTo>
                <a:cubicBezTo>
                  <a:pt x="8756" y="7522"/>
                  <a:pt x="8763" y="7514"/>
                  <a:pt x="8806" y="7516"/>
                </a:cubicBezTo>
                <a:cubicBezTo>
                  <a:pt x="8793" y="7424"/>
                  <a:pt x="8759" y="7347"/>
                  <a:pt x="8756" y="7243"/>
                </a:cubicBezTo>
                <a:cubicBezTo>
                  <a:pt x="8756" y="7169"/>
                  <a:pt x="8756" y="7160"/>
                  <a:pt x="8756" y="7119"/>
                </a:cubicBezTo>
              </a:path>
              <a:path w="3349" h="1167">
                <a:moveTo>
                  <a:pt x="8161" y="7714"/>
                </a:moveTo>
                <a:cubicBezTo>
                  <a:pt x="8138" y="7821"/>
                  <a:pt x="8116" y="7889"/>
                  <a:pt x="8136" y="7987"/>
                </a:cubicBezTo>
                <a:cubicBezTo>
                  <a:pt x="8254" y="7972"/>
                  <a:pt x="8339" y="7962"/>
                  <a:pt x="8458" y="7962"/>
                </a:cubicBezTo>
              </a:path>
              <a:path w="3349" h="1167">
                <a:moveTo>
                  <a:pt x="8483" y="7640"/>
                </a:moveTo>
                <a:cubicBezTo>
                  <a:pt x="8463" y="7808"/>
                  <a:pt x="8458" y="7966"/>
                  <a:pt x="8458" y="8136"/>
                </a:cubicBezTo>
              </a:path>
              <a:path w="3349" h="1167">
                <a:moveTo>
                  <a:pt x="8880" y="7888"/>
                </a:moveTo>
                <a:cubicBezTo>
                  <a:pt x="8941" y="7986"/>
                  <a:pt x="9014" y="8053"/>
                  <a:pt x="9103" y="8136"/>
                </a:cubicBezTo>
              </a:path>
              <a:path w="3349" h="1167">
                <a:moveTo>
                  <a:pt x="9103" y="7813"/>
                </a:moveTo>
                <a:cubicBezTo>
                  <a:pt x="9049" y="7947"/>
                  <a:pt x="8992" y="8079"/>
                  <a:pt x="8930" y="8210"/>
                </a:cubicBezTo>
              </a:path>
              <a:path w="3349" h="1167">
                <a:moveTo>
                  <a:pt x="9575" y="7640"/>
                </a:moveTo>
                <a:cubicBezTo>
                  <a:pt x="9521" y="7655"/>
                  <a:pt x="9336" y="7722"/>
                  <a:pt x="9351" y="7813"/>
                </a:cubicBezTo>
                <a:cubicBezTo>
                  <a:pt x="9367" y="7911"/>
                  <a:pt x="9548" y="7984"/>
                  <a:pt x="9599" y="8086"/>
                </a:cubicBezTo>
                <a:cubicBezTo>
                  <a:pt x="9509" y="8109"/>
                  <a:pt x="9485" y="8117"/>
                  <a:pt x="9426" y="8111"/>
                </a:cubicBezTo>
                <a:cubicBezTo>
                  <a:pt x="9446" y="7937"/>
                  <a:pt x="9510" y="7843"/>
                  <a:pt x="9599" y="7689"/>
                </a:cubicBezTo>
              </a:path>
              <a:path w="3349" h="1167">
                <a:moveTo>
                  <a:pt x="9947" y="7987"/>
                </a:moveTo>
                <a:cubicBezTo>
                  <a:pt x="10075" y="8015"/>
                  <a:pt x="10163" y="8003"/>
                  <a:pt x="10294" y="7987"/>
                </a:cubicBezTo>
              </a:path>
              <a:path w="3349" h="1167">
                <a:moveTo>
                  <a:pt x="10170" y="7714"/>
                </a:moveTo>
                <a:lnTo>
                  <a:pt x="10170" y="7714"/>
                </a:lnTo>
              </a:path>
              <a:path w="3349" h="1167">
                <a:moveTo>
                  <a:pt x="10145" y="7764"/>
                </a:moveTo>
                <a:cubicBezTo>
                  <a:pt x="10145" y="7747"/>
                  <a:pt x="10145" y="7731"/>
                  <a:pt x="10145" y="7714"/>
                </a:cubicBezTo>
                <a:cubicBezTo>
                  <a:pt x="10169" y="7884"/>
                  <a:pt x="10132" y="8060"/>
                  <a:pt x="10096" y="8235"/>
                </a:cubicBezTo>
              </a:path>
              <a:path w="3349" h="1167">
                <a:moveTo>
                  <a:pt x="10567" y="7714"/>
                </a:moveTo>
                <a:cubicBezTo>
                  <a:pt x="10612" y="7694"/>
                  <a:pt x="10795" y="7595"/>
                  <a:pt x="10765" y="7739"/>
                </a:cubicBezTo>
                <a:cubicBezTo>
                  <a:pt x="10713" y="7818"/>
                  <a:pt x="10692" y="7847"/>
                  <a:pt x="10641" y="7888"/>
                </a:cubicBezTo>
                <a:cubicBezTo>
                  <a:pt x="10699" y="7861"/>
                  <a:pt x="10998" y="7807"/>
                  <a:pt x="10840" y="7987"/>
                </a:cubicBezTo>
                <a:cubicBezTo>
                  <a:pt x="10736" y="8039"/>
                  <a:pt x="10697" y="8057"/>
                  <a:pt x="10616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89160" y="2963880"/>
            <a:ext cx="785880" cy="768240"/>
          </a:xfrm>
          <a:custGeom>
            <a:avLst/>
            <a:gdLst/>
            <a:ahLst/>
            <a:rect l="l" t="t" r="r" b="b"/>
            <a:pathLst>
              <a:path w="2184" h="2134">
                <a:moveTo>
                  <a:pt x="8657" y="8235"/>
                </a:moveTo>
                <a:cubicBezTo>
                  <a:pt x="8612" y="8317"/>
                  <a:pt x="8603" y="8384"/>
                  <a:pt x="8582" y="8483"/>
                </a:cubicBezTo>
                <a:cubicBezTo>
                  <a:pt x="8731" y="8483"/>
                  <a:pt x="8881" y="8443"/>
                  <a:pt x="9029" y="8458"/>
                </a:cubicBezTo>
                <a:cubicBezTo>
                  <a:pt x="9096" y="8465"/>
                  <a:pt x="9138" y="8483"/>
                  <a:pt x="9203" y="8483"/>
                </a:cubicBezTo>
                <a:cubicBezTo>
                  <a:pt x="9220" y="8402"/>
                  <a:pt x="9240" y="8317"/>
                  <a:pt x="9252" y="8235"/>
                </a:cubicBezTo>
              </a:path>
              <a:path w="2184" h="2134">
                <a:moveTo>
                  <a:pt x="8731" y="8731"/>
                </a:moveTo>
                <a:cubicBezTo>
                  <a:pt x="8860" y="8705"/>
                  <a:pt x="8873" y="8688"/>
                  <a:pt x="8954" y="8781"/>
                </a:cubicBezTo>
                <a:cubicBezTo>
                  <a:pt x="8896" y="8880"/>
                  <a:pt x="8864" y="8905"/>
                  <a:pt x="8756" y="8954"/>
                </a:cubicBezTo>
                <a:cubicBezTo>
                  <a:pt x="8827" y="8907"/>
                  <a:pt x="8975" y="8883"/>
                  <a:pt x="8880" y="9029"/>
                </a:cubicBezTo>
                <a:cubicBezTo>
                  <a:pt x="8796" y="9157"/>
                  <a:pt x="8694" y="9133"/>
                  <a:pt x="8682" y="9004"/>
                </a:cubicBezTo>
              </a:path>
              <a:path w="2184" h="2134">
                <a:moveTo>
                  <a:pt x="9079" y="8756"/>
                </a:moveTo>
                <a:cubicBezTo>
                  <a:pt x="9194" y="8765"/>
                  <a:pt x="9330" y="8772"/>
                  <a:pt x="9376" y="8905"/>
                </a:cubicBezTo>
                <a:cubicBezTo>
                  <a:pt x="9427" y="9052"/>
                  <a:pt x="9166" y="9070"/>
                  <a:pt x="9079" y="9054"/>
                </a:cubicBezTo>
                <a:cubicBezTo>
                  <a:pt x="9071" y="9046"/>
                  <a:pt x="9062" y="9037"/>
                  <a:pt x="9054" y="9029"/>
                </a:cubicBezTo>
                <a:cubicBezTo>
                  <a:pt x="9159" y="8923"/>
                  <a:pt x="9254" y="8875"/>
                  <a:pt x="9376" y="9004"/>
                </a:cubicBezTo>
                <a:cubicBezTo>
                  <a:pt x="9384" y="9021"/>
                  <a:pt x="9393" y="9037"/>
                  <a:pt x="9401" y="9054"/>
                </a:cubicBezTo>
              </a:path>
              <a:path w="2184" h="2134">
                <a:moveTo>
                  <a:pt x="9798" y="8830"/>
                </a:moveTo>
                <a:cubicBezTo>
                  <a:pt x="9829" y="8909"/>
                  <a:pt x="9841" y="8970"/>
                  <a:pt x="9847" y="9054"/>
                </a:cubicBezTo>
              </a:path>
              <a:path w="2184" h="2134">
                <a:moveTo>
                  <a:pt x="9699" y="8954"/>
                </a:moveTo>
                <a:cubicBezTo>
                  <a:pt x="9805" y="8916"/>
                  <a:pt x="9908" y="8900"/>
                  <a:pt x="10021" y="8880"/>
                </a:cubicBezTo>
              </a:path>
              <a:path w="2184" h="2134">
                <a:moveTo>
                  <a:pt x="10269" y="8756"/>
                </a:moveTo>
                <a:cubicBezTo>
                  <a:pt x="10317" y="8748"/>
                  <a:pt x="10607" y="8693"/>
                  <a:pt x="10468" y="8855"/>
                </a:cubicBezTo>
                <a:cubicBezTo>
                  <a:pt x="10451" y="8863"/>
                  <a:pt x="10435" y="8872"/>
                  <a:pt x="10418" y="8880"/>
                </a:cubicBezTo>
                <a:cubicBezTo>
                  <a:pt x="10519" y="8880"/>
                  <a:pt x="10540" y="8870"/>
                  <a:pt x="10592" y="8905"/>
                </a:cubicBezTo>
                <a:cubicBezTo>
                  <a:pt x="10553" y="9045"/>
                  <a:pt x="10549" y="9012"/>
                  <a:pt x="10393" y="9029"/>
                </a:cubicBezTo>
              </a:path>
              <a:path w="2184" h="2134">
                <a:moveTo>
                  <a:pt x="9500" y="9277"/>
                </a:moveTo>
                <a:cubicBezTo>
                  <a:pt x="9500" y="9343"/>
                  <a:pt x="9500" y="9376"/>
                  <a:pt x="9500" y="9426"/>
                </a:cubicBezTo>
                <a:cubicBezTo>
                  <a:pt x="9694" y="9400"/>
                  <a:pt x="9848" y="9368"/>
                  <a:pt x="10046" y="9376"/>
                </a:cubicBezTo>
                <a:cubicBezTo>
                  <a:pt x="10216" y="9383"/>
                  <a:pt x="10209" y="9355"/>
                  <a:pt x="10220" y="9203"/>
                </a:cubicBezTo>
              </a:path>
              <a:path w="2184" h="2134">
                <a:moveTo>
                  <a:pt x="9500" y="9599"/>
                </a:moveTo>
                <a:cubicBezTo>
                  <a:pt x="9573" y="9575"/>
                  <a:pt x="9791" y="9524"/>
                  <a:pt x="9723" y="9699"/>
                </a:cubicBezTo>
                <a:cubicBezTo>
                  <a:pt x="9684" y="9798"/>
                  <a:pt x="9614" y="9822"/>
                  <a:pt x="9525" y="9847"/>
                </a:cubicBezTo>
                <a:cubicBezTo>
                  <a:pt x="9666" y="9794"/>
                  <a:pt x="9732" y="9796"/>
                  <a:pt x="9773" y="9947"/>
                </a:cubicBezTo>
                <a:cubicBezTo>
                  <a:pt x="9689" y="10007"/>
                  <a:pt x="9450" y="10149"/>
                  <a:pt x="9401" y="9947"/>
                </a:cubicBezTo>
                <a:cubicBezTo>
                  <a:pt x="9409" y="9922"/>
                  <a:pt x="9418" y="9897"/>
                  <a:pt x="9426" y="9872"/>
                </a:cubicBezTo>
              </a:path>
              <a:path w="2184" h="2134">
                <a:moveTo>
                  <a:pt x="10244" y="9575"/>
                </a:moveTo>
                <a:cubicBezTo>
                  <a:pt x="10169" y="9612"/>
                  <a:pt x="10026" y="9603"/>
                  <a:pt x="9996" y="9674"/>
                </a:cubicBezTo>
                <a:cubicBezTo>
                  <a:pt x="9988" y="9707"/>
                  <a:pt x="9979" y="9740"/>
                  <a:pt x="9971" y="9773"/>
                </a:cubicBezTo>
                <a:cubicBezTo>
                  <a:pt x="10084" y="9798"/>
                  <a:pt x="10177" y="9771"/>
                  <a:pt x="10294" y="9847"/>
                </a:cubicBezTo>
                <a:cubicBezTo>
                  <a:pt x="10515" y="9991"/>
                  <a:pt x="10070" y="9995"/>
                  <a:pt x="10046" y="9996"/>
                </a:cubicBezTo>
              </a:path>
              <a:path w="2184" h="2134">
                <a:moveTo>
                  <a:pt x="9277" y="10269"/>
                </a:moveTo>
                <a:cubicBezTo>
                  <a:pt x="9566" y="10395"/>
                  <a:pt x="9852" y="10398"/>
                  <a:pt x="10170" y="10319"/>
                </a:cubicBezTo>
                <a:cubicBezTo>
                  <a:pt x="10443" y="10251"/>
                  <a:pt x="10778" y="10106"/>
                  <a:pt x="10765" y="9773"/>
                </a:cubicBezTo>
                <a:cubicBezTo>
                  <a:pt x="10752" y="9442"/>
                  <a:pt x="10488" y="9308"/>
                  <a:pt x="10195" y="9252"/>
                </a:cubicBezTo>
                <a:cubicBezTo>
                  <a:pt x="9895" y="9194"/>
                  <a:pt x="9495" y="9178"/>
                  <a:pt x="9252" y="9401"/>
                </a:cubicBezTo>
                <a:cubicBezTo>
                  <a:pt x="8967" y="9663"/>
                  <a:pt x="8819" y="10198"/>
                  <a:pt x="9302" y="10344"/>
                </a:cubicBezTo>
                <a:cubicBezTo>
                  <a:pt x="9393" y="10344"/>
                  <a:pt x="9484" y="10344"/>
                  <a:pt x="9575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45200" y="1884240"/>
            <a:ext cx="438120" cy="384120"/>
          </a:xfrm>
          <a:custGeom>
            <a:avLst/>
            <a:gdLst/>
            <a:ahLst/>
            <a:rect l="l" t="t" r="r" b="b"/>
            <a:pathLst>
              <a:path w="1216" h="1067">
                <a:moveTo>
                  <a:pt x="19720" y="6201"/>
                </a:moveTo>
                <a:cubicBezTo>
                  <a:pt x="19720" y="6116"/>
                  <a:pt x="19726" y="6096"/>
                  <a:pt x="19695" y="6052"/>
                </a:cubicBezTo>
                <a:cubicBezTo>
                  <a:pt x="19799" y="6052"/>
                  <a:pt x="19889" y="6074"/>
                  <a:pt x="19993" y="6077"/>
                </a:cubicBezTo>
                <a:cubicBezTo>
                  <a:pt x="20112" y="6081"/>
                  <a:pt x="20223" y="6117"/>
                  <a:pt x="20340" y="6127"/>
                </a:cubicBezTo>
                <a:cubicBezTo>
                  <a:pt x="20441" y="6136"/>
                  <a:pt x="20539" y="6145"/>
                  <a:pt x="20638" y="6152"/>
                </a:cubicBezTo>
                <a:cubicBezTo>
                  <a:pt x="20750" y="6160"/>
                  <a:pt x="20709" y="6181"/>
                  <a:pt x="20762" y="6276"/>
                </a:cubicBezTo>
                <a:cubicBezTo>
                  <a:pt x="20770" y="6284"/>
                  <a:pt x="20778" y="6292"/>
                  <a:pt x="20786" y="6300"/>
                </a:cubicBezTo>
              </a:path>
              <a:path w="1216" h="1067">
                <a:moveTo>
                  <a:pt x="19769" y="5333"/>
                </a:moveTo>
                <a:cubicBezTo>
                  <a:pt x="19855" y="5219"/>
                  <a:pt x="19833" y="5248"/>
                  <a:pt x="19968" y="5283"/>
                </a:cubicBezTo>
                <a:cubicBezTo>
                  <a:pt x="20015" y="5500"/>
                  <a:pt x="19926" y="5689"/>
                  <a:pt x="19670" y="5755"/>
                </a:cubicBezTo>
                <a:cubicBezTo>
                  <a:pt x="19645" y="5747"/>
                  <a:pt x="19621" y="5738"/>
                  <a:pt x="19596" y="5730"/>
                </a:cubicBezTo>
                <a:cubicBezTo>
                  <a:pt x="19581" y="5619"/>
                  <a:pt x="19571" y="5495"/>
                  <a:pt x="19745" y="5531"/>
                </a:cubicBezTo>
                <a:cubicBezTo>
                  <a:pt x="19842" y="5551"/>
                  <a:pt x="19980" y="5633"/>
                  <a:pt x="20017" y="5730"/>
                </a:cubicBezTo>
                <a:cubicBezTo>
                  <a:pt x="20017" y="5738"/>
                  <a:pt x="20017" y="5747"/>
                  <a:pt x="20017" y="5755"/>
                </a:cubicBezTo>
              </a:path>
              <a:path w="1216" h="1067">
                <a:moveTo>
                  <a:pt x="20389" y="5234"/>
                </a:moveTo>
                <a:cubicBezTo>
                  <a:pt x="20250" y="5271"/>
                  <a:pt x="20156" y="5259"/>
                  <a:pt x="20141" y="5407"/>
                </a:cubicBezTo>
                <a:cubicBezTo>
                  <a:pt x="20234" y="5473"/>
                  <a:pt x="20327" y="5534"/>
                  <a:pt x="20414" y="5606"/>
                </a:cubicBezTo>
                <a:cubicBezTo>
                  <a:pt x="20386" y="5643"/>
                  <a:pt x="20122" y="5846"/>
                  <a:pt x="20166" y="5631"/>
                </a:cubicBezTo>
                <a:cubicBezTo>
                  <a:pt x="20191" y="5509"/>
                  <a:pt x="20281" y="5391"/>
                  <a:pt x="20340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67800" y="2347920"/>
            <a:ext cx="722160" cy="447840"/>
          </a:xfrm>
          <a:custGeom>
            <a:avLst/>
            <a:gdLst/>
            <a:ahLst/>
            <a:rect l="l" t="t" r="r" b="b"/>
            <a:pathLst>
              <a:path w="2010" h="1241">
                <a:moveTo>
                  <a:pt x="21927" y="6623"/>
                </a:moveTo>
                <a:cubicBezTo>
                  <a:pt x="21998" y="6605"/>
                  <a:pt x="22255" y="6670"/>
                  <a:pt x="22175" y="6821"/>
                </a:cubicBezTo>
                <a:cubicBezTo>
                  <a:pt x="22106" y="6953"/>
                  <a:pt x="21964" y="6953"/>
                  <a:pt x="21853" y="6945"/>
                </a:cubicBezTo>
                <a:cubicBezTo>
                  <a:pt x="21876" y="6857"/>
                  <a:pt x="21959" y="6894"/>
                  <a:pt x="22027" y="6921"/>
                </a:cubicBezTo>
                <a:cubicBezTo>
                  <a:pt x="22043" y="6929"/>
                  <a:pt x="22060" y="6937"/>
                  <a:pt x="22076" y="6945"/>
                </a:cubicBezTo>
              </a:path>
              <a:path w="2010" h="1241">
                <a:moveTo>
                  <a:pt x="22349" y="6573"/>
                </a:moveTo>
                <a:cubicBezTo>
                  <a:pt x="22281" y="6607"/>
                  <a:pt x="22097" y="6694"/>
                  <a:pt x="22200" y="6796"/>
                </a:cubicBezTo>
                <a:cubicBezTo>
                  <a:pt x="22221" y="6817"/>
                  <a:pt x="22540" y="6903"/>
                  <a:pt x="22423" y="6995"/>
                </a:cubicBezTo>
                <a:cubicBezTo>
                  <a:pt x="22398" y="6995"/>
                  <a:pt x="22374" y="6995"/>
                  <a:pt x="22349" y="6995"/>
                </a:cubicBezTo>
                <a:cubicBezTo>
                  <a:pt x="22261" y="6908"/>
                  <a:pt x="22333" y="6812"/>
                  <a:pt x="22374" y="6697"/>
                </a:cubicBezTo>
              </a:path>
              <a:path w="2010" h="1241">
                <a:moveTo>
                  <a:pt x="21977" y="7144"/>
                </a:moveTo>
                <a:cubicBezTo>
                  <a:pt x="22124" y="7138"/>
                  <a:pt x="22254" y="7122"/>
                  <a:pt x="22399" y="7094"/>
                </a:cubicBezTo>
              </a:path>
              <a:path w="2010" h="1241">
                <a:moveTo>
                  <a:pt x="22002" y="7392"/>
                </a:moveTo>
                <a:cubicBezTo>
                  <a:pt x="22078" y="7325"/>
                  <a:pt x="22175" y="7289"/>
                  <a:pt x="22275" y="7317"/>
                </a:cubicBezTo>
                <a:cubicBezTo>
                  <a:pt x="22248" y="7492"/>
                  <a:pt x="22152" y="7564"/>
                  <a:pt x="22027" y="7689"/>
                </a:cubicBezTo>
                <a:cubicBezTo>
                  <a:pt x="21985" y="7731"/>
                  <a:pt x="21977" y="7739"/>
                  <a:pt x="21952" y="7764"/>
                </a:cubicBezTo>
                <a:cubicBezTo>
                  <a:pt x="22073" y="7726"/>
                  <a:pt x="22175" y="7650"/>
                  <a:pt x="22299" y="7689"/>
                </a:cubicBezTo>
                <a:cubicBezTo>
                  <a:pt x="22316" y="7697"/>
                  <a:pt x="22332" y="7706"/>
                  <a:pt x="22349" y="7714"/>
                </a:cubicBezTo>
              </a:path>
              <a:path w="2010" h="1241">
                <a:moveTo>
                  <a:pt x="23068" y="6970"/>
                </a:moveTo>
                <a:cubicBezTo>
                  <a:pt x="23068" y="7094"/>
                  <a:pt x="23068" y="7218"/>
                  <a:pt x="23068" y="7342"/>
                </a:cubicBezTo>
              </a:path>
              <a:path w="2010" h="1241">
                <a:moveTo>
                  <a:pt x="23217" y="7020"/>
                </a:moveTo>
                <a:cubicBezTo>
                  <a:pt x="23232" y="7150"/>
                  <a:pt x="23272" y="7188"/>
                  <a:pt x="23416" y="7169"/>
                </a:cubicBezTo>
                <a:cubicBezTo>
                  <a:pt x="23441" y="7161"/>
                  <a:pt x="23465" y="7152"/>
                  <a:pt x="23490" y="7144"/>
                </a:cubicBezTo>
              </a:path>
              <a:path w="2010" h="1241">
                <a:moveTo>
                  <a:pt x="23465" y="6921"/>
                </a:moveTo>
                <a:cubicBezTo>
                  <a:pt x="23488" y="7037"/>
                  <a:pt x="23490" y="7148"/>
                  <a:pt x="23490" y="7268"/>
                </a:cubicBezTo>
              </a:path>
              <a:path w="2010" h="1241">
                <a:moveTo>
                  <a:pt x="22771" y="7466"/>
                </a:moveTo>
                <a:cubicBezTo>
                  <a:pt x="22927" y="7612"/>
                  <a:pt x="22958" y="7610"/>
                  <a:pt x="23192" y="7590"/>
                </a:cubicBezTo>
                <a:cubicBezTo>
                  <a:pt x="23404" y="7572"/>
                  <a:pt x="23656" y="7513"/>
                  <a:pt x="23788" y="7342"/>
                </a:cubicBezTo>
                <a:cubicBezTo>
                  <a:pt x="23872" y="7233"/>
                  <a:pt x="23902" y="7051"/>
                  <a:pt x="23837" y="6921"/>
                </a:cubicBezTo>
                <a:cubicBezTo>
                  <a:pt x="23753" y="6751"/>
                  <a:pt x="23625" y="6633"/>
                  <a:pt x="23440" y="6573"/>
                </a:cubicBezTo>
                <a:cubicBezTo>
                  <a:pt x="23244" y="6510"/>
                  <a:pt x="23007" y="6505"/>
                  <a:pt x="22820" y="6598"/>
                </a:cubicBezTo>
                <a:cubicBezTo>
                  <a:pt x="22631" y="6692"/>
                  <a:pt x="22390" y="6915"/>
                  <a:pt x="22399" y="7144"/>
                </a:cubicBezTo>
                <a:cubicBezTo>
                  <a:pt x="22411" y="7454"/>
                  <a:pt x="22813" y="7479"/>
                  <a:pt x="23019" y="7491"/>
                </a:cubicBezTo>
                <a:cubicBezTo>
                  <a:pt x="23069" y="7491"/>
                  <a:pt x="23118" y="7491"/>
                  <a:pt x="23168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8200" y="4786200"/>
            <a:ext cx="662040" cy="1116000"/>
          </a:xfrm>
          <a:custGeom>
            <a:avLst/>
            <a:gdLst/>
            <a:ahLst/>
            <a:rect l="l" t="t" r="r" b="b"/>
            <a:pathLst>
              <a:path w="1837" h="3102">
                <a:moveTo>
                  <a:pt x="20290" y="13320"/>
                </a:moveTo>
                <a:cubicBezTo>
                  <a:pt x="20290" y="13388"/>
                  <a:pt x="20287" y="13407"/>
                  <a:pt x="20315" y="13444"/>
                </a:cubicBezTo>
                <a:cubicBezTo>
                  <a:pt x="20486" y="13432"/>
                  <a:pt x="20668" y="13364"/>
                  <a:pt x="20836" y="13419"/>
                </a:cubicBezTo>
                <a:cubicBezTo>
                  <a:pt x="20924" y="13448"/>
                  <a:pt x="20958" y="13539"/>
                  <a:pt x="21059" y="13519"/>
                </a:cubicBezTo>
                <a:cubicBezTo>
                  <a:pt x="21149" y="13501"/>
                  <a:pt x="21187" y="13359"/>
                  <a:pt x="21233" y="13295"/>
                </a:cubicBezTo>
              </a:path>
              <a:path w="1837" h="3102">
                <a:moveTo>
                  <a:pt x="20935" y="13742"/>
                </a:moveTo>
                <a:cubicBezTo>
                  <a:pt x="20800" y="13751"/>
                  <a:pt x="20717" y="13731"/>
                  <a:pt x="20662" y="13866"/>
                </a:cubicBezTo>
                <a:cubicBezTo>
                  <a:pt x="20642" y="13948"/>
                  <a:pt x="20634" y="13964"/>
                  <a:pt x="20638" y="14015"/>
                </a:cubicBezTo>
                <a:cubicBezTo>
                  <a:pt x="20768" y="13996"/>
                  <a:pt x="20857" y="13989"/>
                  <a:pt x="20985" y="14015"/>
                </a:cubicBezTo>
                <a:cubicBezTo>
                  <a:pt x="20939" y="14197"/>
                  <a:pt x="20864" y="14182"/>
                  <a:pt x="20687" y="14163"/>
                </a:cubicBezTo>
              </a:path>
              <a:path w="1837" h="3102">
                <a:moveTo>
                  <a:pt x="21109" y="13791"/>
                </a:moveTo>
                <a:cubicBezTo>
                  <a:pt x="21109" y="13828"/>
                  <a:pt x="21089" y="13945"/>
                  <a:pt x="21134" y="13965"/>
                </a:cubicBezTo>
                <a:cubicBezTo>
                  <a:pt x="21217" y="13965"/>
                  <a:pt x="21251" y="13963"/>
                  <a:pt x="21307" y="13940"/>
                </a:cubicBezTo>
              </a:path>
              <a:path w="1837" h="3102">
                <a:moveTo>
                  <a:pt x="21233" y="13692"/>
                </a:moveTo>
                <a:cubicBezTo>
                  <a:pt x="21228" y="13842"/>
                  <a:pt x="21216" y="13989"/>
                  <a:pt x="21208" y="14139"/>
                </a:cubicBezTo>
              </a:path>
              <a:path w="1837" h="3102">
                <a:moveTo>
                  <a:pt x="19546" y="13990"/>
                </a:moveTo>
                <a:cubicBezTo>
                  <a:pt x="19608" y="13928"/>
                  <a:pt x="19792" y="13849"/>
                  <a:pt x="19769" y="14039"/>
                </a:cubicBezTo>
                <a:cubicBezTo>
                  <a:pt x="19728" y="14122"/>
                  <a:pt x="19729" y="14148"/>
                  <a:pt x="19670" y="14163"/>
                </a:cubicBezTo>
                <a:cubicBezTo>
                  <a:pt x="19778" y="14023"/>
                  <a:pt x="19771" y="14246"/>
                  <a:pt x="19670" y="14312"/>
                </a:cubicBezTo>
                <a:cubicBezTo>
                  <a:pt x="19570" y="14337"/>
                  <a:pt x="19536" y="14345"/>
                  <a:pt x="19496" y="14263"/>
                </a:cubicBezTo>
              </a:path>
              <a:path w="1837" h="3102">
                <a:moveTo>
                  <a:pt x="20141" y="13891"/>
                </a:moveTo>
                <a:cubicBezTo>
                  <a:pt x="20141" y="14024"/>
                  <a:pt x="20137" y="14059"/>
                  <a:pt x="20166" y="14139"/>
                </a:cubicBezTo>
              </a:path>
              <a:path w="1837" h="3102">
                <a:moveTo>
                  <a:pt x="20017" y="14064"/>
                </a:moveTo>
                <a:cubicBezTo>
                  <a:pt x="20098" y="14091"/>
                  <a:pt x="20130" y="14099"/>
                  <a:pt x="20191" y="14089"/>
                </a:cubicBezTo>
              </a:path>
              <a:path w="1837" h="3102">
                <a:moveTo>
                  <a:pt x="19943" y="14660"/>
                </a:moveTo>
                <a:cubicBezTo>
                  <a:pt x="19943" y="14777"/>
                  <a:pt x="19945" y="14811"/>
                  <a:pt x="19918" y="14883"/>
                </a:cubicBezTo>
                <a:cubicBezTo>
                  <a:pt x="20141" y="14776"/>
                  <a:pt x="20313" y="14728"/>
                  <a:pt x="20563" y="14784"/>
                </a:cubicBezTo>
                <a:cubicBezTo>
                  <a:pt x="20580" y="14792"/>
                  <a:pt x="20596" y="14800"/>
                  <a:pt x="20613" y="14808"/>
                </a:cubicBezTo>
                <a:cubicBezTo>
                  <a:pt x="20646" y="14677"/>
                  <a:pt x="20652" y="14527"/>
                  <a:pt x="20662" y="14387"/>
                </a:cubicBezTo>
              </a:path>
              <a:path w="1837" h="3102">
                <a:moveTo>
                  <a:pt x="20241" y="15404"/>
                </a:moveTo>
                <a:cubicBezTo>
                  <a:pt x="20074" y="15418"/>
                  <a:pt x="20069" y="15397"/>
                  <a:pt x="20017" y="15553"/>
                </a:cubicBezTo>
                <a:cubicBezTo>
                  <a:pt x="20009" y="15578"/>
                  <a:pt x="20001" y="15602"/>
                  <a:pt x="19993" y="15627"/>
                </a:cubicBezTo>
                <a:cubicBezTo>
                  <a:pt x="20127" y="15634"/>
                  <a:pt x="20175" y="15639"/>
                  <a:pt x="20290" y="15701"/>
                </a:cubicBezTo>
                <a:cubicBezTo>
                  <a:pt x="20243" y="15890"/>
                  <a:pt x="20150" y="15884"/>
                  <a:pt x="19968" y="15875"/>
                </a:cubicBezTo>
              </a:path>
              <a:path w="1837" h="3102">
                <a:moveTo>
                  <a:pt x="20389" y="15503"/>
                </a:moveTo>
                <a:cubicBezTo>
                  <a:pt x="20435" y="15595"/>
                  <a:pt x="20498" y="15389"/>
                  <a:pt x="20588" y="15329"/>
                </a:cubicBezTo>
                <a:cubicBezTo>
                  <a:pt x="20613" y="15321"/>
                  <a:pt x="20637" y="15312"/>
                  <a:pt x="20662" y="15304"/>
                </a:cubicBezTo>
                <a:cubicBezTo>
                  <a:pt x="20733" y="15493"/>
                  <a:pt x="20712" y="15669"/>
                  <a:pt x="20687" y="15875"/>
                </a:cubicBezTo>
              </a:path>
              <a:path w="1837" h="3102">
                <a:moveTo>
                  <a:pt x="19769" y="16346"/>
                </a:moveTo>
                <a:cubicBezTo>
                  <a:pt x="20246" y="16382"/>
                  <a:pt x="20601" y="16249"/>
                  <a:pt x="21010" y="15974"/>
                </a:cubicBezTo>
                <a:cubicBezTo>
                  <a:pt x="21243" y="15788"/>
                  <a:pt x="21320" y="15741"/>
                  <a:pt x="21332" y="15528"/>
                </a:cubicBezTo>
                <a:cubicBezTo>
                  <a:pt x="20930" y="15076"/>
                  <a:pt x="20312" y="14912"/>
                  <a:pt x="19769" y="15404"/>
                </a:cubicBezTo>
                <a:cubicBezTo>
                  <a:pt x="19087" y="16022"/>
                  <a:pt x="19703" y="16239"/>
                  <a:pt x="20216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73280" y="4786200"/>
            <a:ext cx="447840" cy="125640"/>
          </a:xfrm>
          <a:custGeom>
            <a:avLst/>
            <a:gdLst/>
            <a:ahLst/>
            <a:rect l="l" t="t" r="r" b="b"/>
            <a:pathLst>
              <a:path w="1241" h="349">
                <a:moveTo>
                  <a:pt x="9649" y="13395"/>
                </a:moveTo>
                <a:cubicBezTo>
                  <a:pt x="9649" y="13477"/>
                  <a:pt x="9656" y="13539"/>
                  <a:pt x="9674" y="13618"/>
                </a:cubicBezTo>
                <a:cubicBezTo>
                  <a:pt x="9876" y="13598"/>
                  <a:pt x="10091" y="13540"/>
                  <a:pt x="10294" y="13543"/>
                </a:cubicBezTo>
                <a:cubicBezTo>
                  <a:pt x="10445" y="13545"/>
                  <a:pt x="10658" y="13577"/>
                  <a:pt x="10790" y="13643"/>
                </a:cubicBezTo>
                <a:cubicBezTo>
                  <a:pt x="10807" y="13518"/>
                  <a:pt x="10844" y="13414"/>
                  <a:pt x="10889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54280" y="5010120"/>
            <a:ext cx="142920" cy="11592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9996" y="13915"/>
                </a:moveTo>
                <a:cubicBezTo>
                  <a:pt x="10115" y="13922"/>
                  <a:pt x="10172" y="13927"/>
                  <a:pt x="10269" y="13990"/>
                </a:cubicBezTo>
                <a:cubicBezTo>
                  <a:pt x="10172" y="14184"/>
                  <a:pt x="10089" y="14225"/>
                  <a:pt x="9872" y="14213"/>
                </a:cubicBezTo>
                <a:cubicBezTo>
                  <a:pt x="9949" y="14093"/>
                  <a:pt x="10053" y="14031"/>
                  <a:pt x="10195" y="14139"/>
                </a:cubicBezTo>
                <a:cubicBezTo>
                  <a:pt x="10203" y="14155"/>
                  <a:pt x="10212" y="14172"/>
                  <a:pt x="10220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8840" y="4983120"/>
            <a:ext cx="71280" cy="13356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10616" y="13841"/>
                </a:moveTo>
                <a:cubicBezTo>
                  <a:pt x="10488" y="13920"/>
                  <a:pt x="10434" y="13941"/>
                  <a:pt x="10542" y="14064"/>
                </a:cubicBezTo>
                <a:cubicBezTo>
                  <a:pt x="10624" y="14157"/>
                  <a:pt x="10675" y="14140"/>
                  <a:pt x="10616" y="14213"/>
                </a:cubicBezTo>
                <a:cubicBezTo>
                  <a:pt x="10487" y="14138"/>
                  <a:pt x="10565" y="14054"/>
                  <a:pt x="1064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4000" y="5081760"/>
            <a:ext cx="115920" cy="14256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6796" y="14114"/>
                </a:moveTo>
                <a:cubicBezTo>
                  <a:pt x="6972" y="14186"/>
                  <a:pt x="7047" y="14341"/>
                  <a:pt x="6821" y="14486"/>
                </a:cubicBezTo>
                <a:cubicBezTo>
                  <a:pt x="6720" y="14506"/>
                  <a:pt x="6700" y="14525"/>
                  <a:pt x="6648" y="14486"/>
                </a:cubicBezTo>
                <a:cubicBezTo>
                  <a:pt x="6706" y="14283"/>
                  <a:pt x="6798" y="14326"/>
                  <a:pt x="6945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4840" y="5081760"/>
            <a:ext cx="135000" cy="16956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7293" y="14114"/>
                </a:moveTo>
                <a:cubicBezTo>
                  <a:pt x="7211" y="14150"/>
                  <a:pt x="7101" y="14163"/>
                  <a:pt x="7069" y="14263"/>
                </a:cubicBezTo>
                <a:cubicBezTo>
                  <a:pt x="7069" y="14288"/>
                  <a:pt x="7069" y="14312"/>
                  <a:pt x="7069" y="14337"/>
                </a:cubicBezTo>
                <a:cubicBezTo>
                  <a:pt x="7147" y="14347"/>
                  <a:pt x="7361" y="14219"/>
                  <a:pt x="7441" y="14337"/>
                </a:cubicBezTo>
                <a:cubicBezTo>
                  <a:pt x="7590" y="14556"/>
                  <a:pt x="7224" y="14552"/>
                  <a:pt x="7144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6680" y="5062680"/>
            <a:ext cx="45720" cy="107640"/>
          </a:xfrm>
          <a:custGeom>
            <a:avLst/>
            <a:gdLst/>
            <a:ahLst/>
            <a:rect l="l" t="t" r="r" b="b"/>
            <a:pathLst>
              <a:path w="125" h="299">
                <a:moveTo>
                  <a:pt x="7714" y="14064"/>
                </a:moveTo>
                <a:cubicBezTo>
                  <a:pt x="7771" y="14164"/>
                  <a:pt x="7805" y="14252"/>
                  <a:pt x="7838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1760" y="508968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7615" y="14213"/>
                </a:moveTo>
                <a:cubicBezTo>
                  <a:pt x="7732" y="14184"/>
                  <a:pt x="7782" y="14169"/>
                  <a:pt x="7863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38320" y="5072040"/>
            <a:ext cx="7164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8161" y="14089"/>
                </a:moveTo>
                <a:cubicBezTo>
                  <a:pt x="8225" y="14238"/>
                  <a:pt x="8199" y="14224"/>
                  <a:pt x="835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4880" y="503712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8458" y="13990"/>
                </a:moveTo>
                <a:cubicBezTo>
                  <a:pt x="8473" y="14123"/>
                  <a:pt x="8499" y="14253"/>
                  <a:pt x="8508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5080" y="5089680"/>
            <a:ext cx="108000" cy="9360"/>
          </a:xfrm>
          <a:custGeom>
            <a:avLst/>
            <a:gdLst/>
            <a:ahLst/>
            <a:rect l="l" t="t" r="r" b="b"/>
            <a:pathLst>
              <a:path w="299" h="25">
                <a:moveTo>
                  <a:pt x="8905" y="14139"/>
                </a:moveTo>
                <a:cubicBezTo>
                  <a:pt x="9007" y="14155"/>
                  <a:pt x="9097" y="14163"/>
                  <a:pt x="9203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51120" y="5241960"/>
            <a:ext cx="303120" cy="125280"/>
          </a:xfrm>
          <a:custGeom>
            <a:avLst/>
            <a:gdLst/>
            <a:ahLst/>
            <a:rect l="l" t="t" r="r" b="b"/>
            <a:pathLst>
              <a:path w="844" h="349">
                <a:moveTo>
                  <a:pt x="7640" y="14635"/>
                </a:moveTo>
                <a:cubicBezTo>
                  <a:pt x="7657" y="14729"/>
                  <a:pt x="7666" y="14819"/>
                  <a:pt x="7689" y="14908"/>
                </a:cubicBezTo>
                <a:cubicBezTo>
                  <a:pt x="7906" y="14861"/>
                  <a:pt x="8095" y="14793"/>
                  <a:pt x="8334" y="14784"/>
                </a:cubicBezTo>
                <a:cubicBezTo>
                  <a:pt x="8490" y="14778"/>
                  <a:pt x="8453" y="14705"/>
                  <a:pt x="8483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0960" y="5483160"/>
            <a:ext cx="135000" cy="11592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7913" y="15280"/>
                </a:moveTo>
                <a:cubicBezTo>
                  <a:pt x="8039" y="15235"/>
                  <a:pt x="8078" y="15226"/>
                  <a:pt x="8210" y="15255"/>
                </a:cubicBezTo>
                <a:cubicBezTo>
                  <a:pt x="8172" y="15508"/>
                  <a:pt x="8117" y="15529"/>
                  <a:pt x="7863" y="15553"/>
                </a:cubicBezTo>
                <a:cubicBezTo>
                  <a:pt x="7842" y="15425"/>
                  <a:pt x="7990" y="15415"/>
                  <a:pt x="8111" y="15429"/>
                </a:cubicBezTo>
                <a:cubicBezTo>
                  <a:pt x="8136" y="15437"/>
                  <a:pt x="8161" y="15445"/>
                  <a:pt x="8186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6960" y="5429160"/>
            <a:ext cx="88920" cy="1526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8657" y="15106"/>
                </a:moveTo>
                <a:cubicBezTo>
                  <a:pt x="8519" y="15095"/>
                  <a:pt x="8477" y="15103"/>
                  <a:pt x="8434" y="15255"/>
                </a:cubicBezTo>
                <a:cubicBezTo>
                  <a:pt x="8545" y="15264"/>
                  <a:pt x="8555" y="15268"/>
                  <a:pt x="8632" y="15180"/>
                </a:cubicBezTo>
                <a:cubicBezTo>
                  <a:pt x="8667" y="15293"/>
                  <a:pt x="8682" y="15385"/>
                  <a:pt x="8682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97160" y="5510160"/>
            <a:ext cx="17640" cy="7920"/>
          </a:xfrm>
          <a:custGeom>
            <a:avLst/>
            <a:gdLst/>
            <a:ahLst/>
            <a:rect l="l" t="t" r="r" b="b"/>
            <a:pathLst>
              <a:path w="51" h="26">
                <a:moveTo>
                  <a:pt x="8880" y="15329"/>
                </a:moveTo>
                <a:cubicBezTo>
                  <a:pt x="8897" y="15321"/>
                  <a:pt x="8913" y="15312"/>
                  <a:pt x="8930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0080" y="5429160"/>
            <a:ext cx="98280" cy="11592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9277" y="15131"/>
                </a:moveTo>
                <a:cubicBezTo>
                  <a:pt x="9380" y="15072"/>
                  <a:pt x="9529" y="15065"/>
                  <a:pt x="9550" y="15230"/>
                </a:cubicBezTo>
                <a:cubicBezTo>
                  <a:pt x="9573" y="15406"/>
                  <a:pt x="9442" y="15389"/>
                  <a:pt x="9327" y="15404"/>
                </a:cubicBezTo>
                <a:cubicBezTo>
                  <a:pt x="9378" y="15319"/>
                  <a:pt x="9413" y="15321"/>
                  <a:pt x="9500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920" y="5375160"/>
            <a:ext cx="90360" cy="1526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9872" y="14932"/>
                </a:moveTo>
                <a:cubicBezTo>
                  <a:pt x="9700" y="15023"/>
                  <a:pt x="9654" y="15049"/>
                  <a:pt x="9798" y="15205"/>
                </a:cubicBezTo>
                <a:cubicBezTo>
                  <a:pt x="9860" y="15268"/>
                  <a:pt x="9893" y="15278"/>
                  <a:pt x="9847" y="15329"/>
                </a:cubicBezTo>
                <a:cubicBezTo>
                  <a:pt x="9782" y="15351"/>
                  <a:pt x="9767" y="15359"/>
                  <a:pt x="9723" y="15354"/>
                </a:cubicBezTo>
                <a:cubicBezTo>
                  <a:pt x="9796" y="15253"/>
                  <a:pt x="9871" y="15155"/>
                  <a:pt x="9947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5880" y="5653080"/>
            <a:ext cx="276120" cy="12528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8682" y="16024"/>
                </a:moveTo>
                <a:cubicBezTo>
                  <a:pt x="8734" y="16050"/>
                  <a:pt x="8938" y="16011"/>
                  <a:pt x="9029" y="15999"/>
                </a:cubicBezTo>
                <a:cubicBezTo>
                  <a:pt x="9184" y="15979"/>
                  <a:pt x="9371" y="16068"/>
                  <a:pt x="9426" y="15900"/>
                </a:cubicBezTo>
                <a:cubicBezTo>
                  <a:pt x="9448" y="15793"/>
                  <a:pt x="9456" y="15769"/>
                  <a:pt x="9451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5867280"/>
            <a:ext cx="792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9029" y="16297"/>
                </a:moveTo>
                <a:cubicBezTo>
                  <a:pt x="9039" y="16398"/>
                  <a:pt x="9054" y="16491"/>
                  <a:pt x="9054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2880" y="5732640"/>
            <a:ext cx="172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8806" y="15925"/>
                </a:moveTo>
                <a:cubicBezTo>
                  <a:pt x="8789" y="15958"/>
                  <a:pt x="8773" y="15991"/>
                  <a:pt x="8756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17880" y="5776920"/>
            <a:ext cx="438120" cy="376200"/>
          </a:xfrm>
          <a:custGeom>
            <a:avLst/>
            <a:gdLst/>
            <a:ahLst/>
            <a:rect l="l" t="t" r="r" b="b"/>
            <a:pathLst>
              <a:path w="1216" h="1042">
                <a:moveTo>
                  <a:pt x="8607" y="17016"/>
                </a:moveTo>
                <a:cubicBezTo>
                  <a:pt x="8939" y="17104"/>
                  <a:pt x="9173" y="17073"/>
                  <a:pt x="9426" y="16793"/>
                </a:cubicBezTo>
                <a:cubicBezTo>
                  <a:pt x="9609" y="16590"/>
                  <a:pt x="9726" y="16123"/>
                  <a:pt x="9327" y="16049"/>
                </a:cubicBezTo>
                <a:cubicBezTo>
                  <a:pt x="8971" y="15983"/>
                  <a:pt x="8374" y="16307"/>
                  <a:pt x="8384" y="16718"/>
                </a:cubicBezTo>
                <a:cubicBezTo>
                  <a:pt x="8491" y="16933"/>
                  <a:pt x="8541" y="17008"/>
                  <a:pt x="873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800100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Unit 1: 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A relationship between two sets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 number you put into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 answer when you evaluate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main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nge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t of all out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27840" y="785880"/>
            <a:ext cx="849240" cy="750960"/>
          </a:xfrm>
          <a:custGeom>
            <a:avLst/>
            <a:gdLst/>
            <a:ahLst/>
            <a:rect l="l" t="t" r="r" b="b"/>
            <a:pathLst>
              <a:path w="2358" h="2084">
                <a:moveTo>
                  <a:pt x="16842" y="2580"/>
                </a:moveTo>
                <a:cubicBezTo>
                  <a:pt x="16842" y="2773"/>
                  <a:pt x="16833" y="2960"/>
                  <a:pt x="16818" y="3150"/>
                </a:cubicBezTo>
                <a:cubicBezTo>
                  <a:pt x="16805" y="3308"/>
                  <a:pt x="16808" y="3465"/>
                  <a:pt x="16793" y="3621"/>
                </a:cubicBezTo>
                <a:cubicBezTo>
                  <a:pt x="16785" y="3708"/>
                  <a:pt x="16782" y="3787"/>
                  <a:pt x="16768" y="3870"/>
                </a:cubicBezTo>
                <a:cubicBezTo>
                  <a:pt x="16752" y="3968"/>
                  <a:pt x="16761" y="4079"/>
                  <a:pt x="16743" y="4167"/>
                </a:cubicBezTo>
                <a:cubicBezTo>
                  <a:pt x="16743" y="4212"/>
                  <a:pt x="16740" y="4225"/>
                  <a:pt x="16768" y="4242"/>
                </a:cubicBezTo>
              </a:path>
              <a:path w="2358" h="2084">
                <a:moveTo>
                  <a:pt x="16991" y="2480"/>
                </a:moveTo>
                <a:cubicBezTo>
                  <a:pt x="16933" y="2485"/>
                  <a:pt x="16889" y="2493"/>
                  <a:pt x="16842" y="2505"/>
                </a:cubicBezTo>
                <a:cubicBezTo>
                  <a:pt x="16918" y="2543"/>
                  <a:pt x="17008" y="2591"/>
                  <a:pt x="17090" y="2604"/>
                </a:cubicBezTo>
                <a:cubicBezTo>
                  <a:pt x="17157" y="2614"/>
                  <a:pt x="17226" y="2645"/>
                  <a:pt x="17289" y="2654"/>
                </a:cubicBezTo>
                <a:cubicBezTo>
                  <a:pt x="17352" y="2663"/>
                  <a:pt x="17452" y="2674"/>
                  <a:pt x="17512" y="2679"/>
                </a:cubicBezTo>
                <a:cubicBezTo>
                  <a:pt x="17771" y="2702"/>
                  <a:pt x="18056" y="2683"/>
                  <a:pt x="18306" y="2654"/>
                </a:cubicBezTo>
                <a:cubicBezTo>
                  <a:pt x="18375" y="2646"/>
                  <a:pt x="18463" y="2625"/>
                  <a:pt x="18529" y="2629"/>
                </a:cubicBezTo>
                <a:cubicBezTo>
                  <a:pt x="18594" y="2633"/>
                  <a:pt x="18611" y="2641"/>
                  <a:pt x="18678" y="2629"/>
                </a:cubicBezTo>
                <a:cubicBezTo>
                  <a:pt x="18674" y="2708"/>
                  <a:pt x="18660" y="2780"/>
                  <a:pt x="18653" y="2853"/>
                </a:cubicBezTo>
                <a:cubicBezTo>
                  <a:pt x="18646" y="2929"/>
                  <a:pt x="18634" y="3001"/>
                  <a:pt x="18628" y="3076"/>
                </a:cubicBezTo>
                <a:cubicBezTo>
                  <a:pt x="18610" y="3306"/>
                  <a:pt x="18629" y="3546"/>
                  <a:pt x="18653" y="3770"/>
                </a:cubicBezTo>
                <a:cubicBezTo>
                  <a:pt x="18666" y="3893"/>
                  <a:pt x="18666" y="4020"/>
                  <a:pt x="18678" y="4142"/>
                </a:cubicBezTo>
                <a:cubicBezTo>
                  <a:pt x="18678" y="4175"/>
                  <a:pt x="18678" y="4192"/>
                  <a:pt x="18678" y="4217"/>
                </a:cubicBezTo>
                <a:cubicBezTo>
                  <a:pt x="18556" y="4217"/>
                  <a:pt x="18447" y="4204"/>
                  <a:pt x="18331" y="4192"/>
                </a:cubicBezTo>
                <a:cubicBezTo>
                  <a:pt x="18244" y="4183"/>
                  <a:pt x="18166" y="4189"/>
                  <a:pt x="18083" y="4167"/>
                </a:cubicBezTo>
                <a:cubicBezTo>
                  <a:pt x="18009" y="4147"/>
                  <a:pt x="17929" y="4137"/>
                  <a:pt x="17859" y="4118"/>
                </a:cubicBezTo>
                <a:cubicBezTo>
                  <a:pt x="17798" y="4101"/>
                  <a:pt x="17726" y="4075"/>
                  <a:pt x="17661" y="4068"/>
                </a:cubicBezTo>
                <a:cubicBezTo>
                  <a:pt x="17589" y="4060"/>
                  <a:pt x="17461" y="4079"/>
                  <a:pt x="17388" y="4093"/>
                </a:cubicBezTo>
                <a:cubicBezTo>
                  <a:pt x="17312" y="4107"/>
                  <a:pt x="17239" y="4126"/>
                  <a:pt x="17165" y="4142"/>
                </a:cubicBezTo>
                <a:cubicBezTo>
                  <a:pt x="17081" y="4160"/>
                  <a:pt x="16998" y="4165"/>
                  <a:pt x="16917" y="4192"/>
                </a:cubicBezTo>
              </a:path>
              <a:path w="2358" h="2084">
                <a:moveTo>
                  <a:pt x="17760" y="2753"/>
                </a:moveTo>
                <a:cubicBezTo>
                  <a:pt x="17752" y="2879"/>
                  <a:pt x="17735" y="2997"/>
                  <a:pt x="17735" y="3125"/>
                </a:cubicBezTo>
                <a:cubicBezTo>
                  <a:pt x="17735" y="3236"/>
                  <a:pt x="17760" y="3335"/>
                  <a:pt x="17760" y="3448"/>
                </a:cubicBezTo>
                <a:cubicBezTo>
                  <a:pt x="17760" y="3584"/>
                  <a:pt x="17758" y="3724"/>
                  <a:pt x="17735" y="3845"/>
                </a:cubicBezTo>
                <a:cubicBezTo>
                  <a:pt x="17725" y="3897"/>
                  <a:pt x="17718" y="3968"/>
                  <a:pt x="17711" y="4018"/>
                </a:cubicBezTo>
                <a:cubicBezTo>
                  <a:pt x="17702" y="4085"/>
                  <a:pt x="17690" y="4152"/>
                  <a:pt x="17686" y="4217"/>
                </a:cubicBezTo>
                <a:cubicBezTo>
                  <a:pt x="17686" y="4258"/>
                  <a:pt x="17686" y="4282"/>
                  <a:pt x="17686" y="4242"/>
                </a:cubicBezTo>
              </a:path>
              <a:path w="2358" h="2084">
                <a:moveTo>
                  <a:pt x="16818" y="3026"/>
                </a:moveTo>
                <a:cubicBezTo>
                  <a:pt x="16939" y="3072"/>
                  <a:pt x="17039" y="3078"/>
                  <a:pt x="17165" y="3101"/>
                </a:cubicBezTo>
                <a:cubicBezTo>
                  <a:pt x="17269" y="3120"/>
                  <a:pt x="17357" y="3125"/>
                  <a:pt x="17462" y="3125"/>
                </a:cubicBezTo>
                <a:cubicBezTo>
                  <a:pt x="17678" y="3125"/>
                  <a:pt x="17900" y="3115"/>
                  <a:pt x="18107" y="3150"/>
                </a:cubicBezTo>
                <a:cubicBezTo>
                  <a:pt x="18256" y="3175"/>
                  <a:pt x="18427" y="3150"/>
                  <a:pt x="18579" y="3150"/>
                </a:cubicBezTo>
              </a:path>
              <a:path w="2358" h="2084">
                <a:moveTo>
                  <a:pt x="17115" y="2828"/>
                </a:moveTo>
                <a:cubicBezTo>
                  <a:pt x="17148" y="2890"/>
                  <a:pt x="17193" y="2963"/>
                  <a:pt x="17214" y="3026"/>
                </a:cubicBezTo>
              </a:path>
              <a:path w="2358" h="2084">
                <a:moveTo>
                  <a:pt x="17264" y="2853"/>
                </a:moveTo>
                <a:cubicBezTo>
                  <a:pt x="17171" y="2871"/>
                  <a:pt x="17166" y="2930"/>
                  <a:pt x="17115" y="3001"/>
                </a:cubicBezTo>
                <a:cubicBezTo>
                  <a:pt x="17085" y="3031"/>
                  <a:pt x="17074" y="3045"/>
                  <a:pt x="17066" y="3076"/>
                </a:cubicBezTo>
              </a:path>
              <a:path w="2358" h="2084">
                <a:moveTo>
                  <a:pt x="18058" y="2877"/>
                </a:moveTo>
                <a:cubicBezTo>
                  <a:pt x="18155" y="2889"/>
                  <a:pt x="18163" y="2915"/>
                  <a:pt x="18207" y="3001"/>
                </a:cubicBezTo>
              </a:path>
              <a:path w="2358" h="2084">
                <a:moveTo>
                  <a:pt x="18355" y="2803"/>
                </a:moveTo>
                <a:cubicBezTo>
                  <a:pt x="18311" y="2887"/>
                  <a:pt x="18243" y="2974"/>
                  <a:pt x="18207" y="3051"/>
                </a:cubicBezTo>
                <a:cubicBezTo>
                  <a:pt x="18199" y="3068"/>
                  <a:pt x="18190" y="3084"/>
                  <a:pt x="18182" y="3101"/>
                </a:cubicBezTo>
              </a:path>
              <a:path w="2358" h="2084">
                <a:moveTo>
                  <a:pt x="17289" y="2183"/>
                </a:moveTo>
                <a:cubicBezTo>
                  <a:pt x="17257" y="2274"/>
                  <a:pt x="17225" y="2342"/>
                  <a:pt x="17214" y="2431"/>
                </a:cubicBezTo>
              </a:path>
              <a:path w="2358" h="2084">
                <a:moveTo>
                  <a:pt x="17388" y="2183"/>
                </a:moveTo>
                <a:cubicBezTo>
                  <a:pt x="17381" y="2267"/>
                  <a:pt x="17369" y="2347"/>
                  <a:pt x="17363" y="2431"/>
                </a:cubicBezTo>
              </a:path>
              <a:path w="2358" h="2084">
                <a:moveTo>
                  <a:pt x="17413" y="2232"/>
                </a:moveTo>
                <a:cubicBezTo>
                  <a:pt x="17459" y="2315"/>
                  <a:pt x="17505" y="2404"/>
                  <a:pt x="17562" y="2480"/>
                </a:cubicBezTo>
                <a:cubicBezTo>
                  <a:pt x="17570" y="2488"/>
                  <a:pt x="17579" y="2497"/>
                  <a:pt x="17587" y="2505"/>
                </a:cubicBezTo>
                <a:cubicBezTo>
                  <a:pt x="17613" y="2426"/>
                  <a:pt x="17630" y="2342"/>
                  <a:pt x="17636" y="2257"/>
                </a:cubicBezTo>
                <a:cubicBezTo>
                  <a:pt x="17636" y="2249"/>
                  <a:pt x="17636" y="2240"/>
                  <a:pt x="17636" y="2232"/>
                </a:cubicBezTo>
              </a:path>
              <a:path w="2358" h="2084">
                <a:moveTo>
                  <a:pt x="18207" y="2282"/>
                </a:moveTo>
                <a:cubicBezTo>
                  <a:pt x="18122" y="2268"/>
                  <a:pt x="18033" y="2367"/>
                  <a:pt x="18033" y="2480"/>
                </a:cubicBezTo>
                <a:cubicBezTo>
                  <a:pt x="18033" y="2621"/>
                  <a:pt x="18157" y="2589"/>
                  <a:pt x="18231" y="2555"/>
                </a:cubicBezTo>
                <a:cubicBezTo>
                  <a:pt x="18308" y="2520"/>
                  <a:pt x="18333" y="2447"/>
                  <a:pt x="18306" y="2381"/>
                </a:cubicBezTo>
                <a:cubicBezTo>
                  <a:pt x="18279" y="2327"/>
                  <a:pt x="18267" y="2307"/>
                  <a:pt x="18231" y="2282"/>
                </a:cubicBezTo>
              </a:path>
              <a:path w="2358" h="2084">
                <a:moveTo>
                  <a:pt x="18430" y="2307"/>
                </a:moveTo>
                <a:cubicBezTo>
                  <a:pt x="18458" y="2398"/>
                  <a:pt x="18450" y="2489"/>
                  <a:pt x="18479" y="2580"/>
                </a:cubicBezTo>
                <a:cubicBezTo>
                  <a:pt x="18569" y="2609"/>
                  <a:pt x="18606" y="2565"/>
                  <a:pt x="18653" y="2480"/>
                </a:cubicBezTo>
                <a:cubicBezTo>
                  <a:pt x="18683" y="2426"/>
                  <a:pt x="18678" y="2392"/>
                  <a:pt x="18678" y="2332"/>
                </a:cubicBezTo>
                <a:cubicBezTo>
                  <a:pt x="18678" y="2430"/>
                  <a:pt x="18691" y="2512"/>
                  <a:pt x="18703" y="2604"/>
                </a:cubicBezTo>
              </a:path>
              <a:path w="2358" h="2084">
                <a:moveTo>
                  <a:pt x="18951" y="2282"/>
                </a:moveTo>
                <a:cubicBezTo>
                  <a:pt x="18951" y="2381"/>
                  <a:pt x="18951" y="2481"/>
                  <a:pt x="18951" y="2580"/>
                </a:cubicBezTo>
              </a:path>
              <a:path w="2358" h="2084">
                <a:moveTo>
                  <a:pt x="18876" y="2282"/>
                </a:moveTo>
                <a:cubicBezTo>
                  <a:pt x="18827" y="2257"/>
                  <a:pt x="18777" y="2232"/>
                  <a:pt x="18728" y="2208"/>
                </a:cubicBezTo>
                <a:cubicBezTo>
                  <a:pt x="18846" y="2219"/>
                  <a:pt x="18955" y="2232"/>
                  <a:pt x="19075" y="2232"/>
                </a:cubicBezTo>
                <a:cubicBezTo>
                  <a:pt x="19083" y="2232"/>
                  <a:pt x="19092" y="2232"/>
                  <a:pt x="19100" y="22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0160" y="49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055" y="1364"/>
                </a:moveTo>
                <a:lnTo>
                  <a:pt x="12055" y="13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27720" y="4589640"/>
            <a:ext cx="554040" cy="63360"/>
          </a:xfrm>
          <a:custGeom>
            <a:avLst/>
            <a:gdLst/>
            <a:ahLst/>
            <a:rect l="l" t="t" r="r" b="b"/>
            <a:pathLst>
              <a:path w="1539" h="174">
                <a:moveTo>
                  <a:pt x="12576" y="12923"/>
                </a:moveTo>
                <a:cubicBezTo>
                  <a:pt x="12764" y="12890"/>
                  <a:pt x="12957" y="12878"/>
                  <a:pt x="13146" y="12849"/>
                </a:cubicBezTo>
                <a:cubicBezTo>
                  <a:pt x="13437" y="12805"/>
                  <a:pt x="13724" y="12776"/>
                  <a:pt x="14015" y="12750"/>
                </a:cubicBezTo>
                <a:cubicBezTo>
                  <a:pt x="14064" y="12750"/>
                  <a:pt x="14081" y="12750"/>
                  <a:pt x="14114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8080" y="5510160"/>
            <a:ext cx="768600" cy="34920"/>
          </a:xfrm>
          <a:custGeom>
            <a:avLst/>
            <a:gdLst/>
            <a:ahLst/>
            <a:rect l="l" t="t" r="r" b="b"/>
            <a:pathLst>
              <a:path w="2134" h="101">
                <a:moveTo>
                  <a:pt x="12080" y="15329"/>
                </a:moveTo>
                <a:cubicBezTo>
                  <a:pt x="12272" y="15301"/>
                  <a:pt x="12435" y="15315"/>
                  <a:pt x="12626" y="15329"/>
                </a:cubicBezTo>
                <a:cubicBezTo>
                  <a:pt x="12784" y="15341"/>
                  <a:pt x="12940" y="15367"/>
                  <a:pt x="13097" y="15379"/>
                </a:cubicBezTo>
                <a:cubicBezTo>
                  <a:pt x="13254" y="15391"/>
                  <a:pt x="13412" y="15392"/>
                  <a:pt x="13568" y="15404"/>
                </a:cubicBezTo>
                <a:cubicBezTo>
                  <a:pt x="13778" y="15420"/>
                  <a:pt x="14008" y="15418"/>
                  <a:pt x="14213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30280" y="6634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474" y="18430"/>
                </a:moveTo>
                <a:lnTo>
                  <a:pt x="6474" y="1843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41280" y="6446880"/>
            <a:ext cx="9864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3721" y="17909"/>
                </a:moveTo>
                <a:cubicBezTo>
                  <a:pt x="3713" y="17917"/>
                  <a:pt x="3704" y="17926"/>
                  <a:pt x="3696" y="17934"/>
                </a:cubicBezTo>
              </a:path>
              <a:path w="274" h="224">
                <a:moveTo>
                  <a:pt x="3448" y="18132"/>
                </a:moveTo>
                <a:lnTo>
                  <a:pt x="3448" y="181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0040" y="675000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4663" y="18777"/>
                </a:moveTo>
                <a:cubicBezTo>
                  <a:pt x="4655" y="18769"/>
                  <a:pt x="4646" y="18760"/>
                  <a:pt x="4638" y="187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ake an input-output table for the function:  y = x + 4, using domain (x) 0, 1,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71800" y="3429000"/>
          <a:ext cx="2819160" cy="2544480"/>
        </p:xfrm>
        <a:graphic>
          <a:graphicData uri="http://schemas.openxmlformats.org/drawingml/2006/table">
            <a:tbl>
              <a:tblPr/>
              <a:tblGrid>
                <a:gridCol w="1409400"/>
                <a:gridCol w="1409760"/>
              </a:tblGrid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09480" y="252360"/>
            <a:ext cx="2756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0"/>
            <a:ext cx="76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8920" y="3205080"/>
            <a:ext cx="2700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10071" y="8905"/>
                </a:moveTo>
                <a:cubicBezTo>
                  <a:pt x="10049" y="9035"/>
                  <a:pt x="10042" y="9173"/>
                  <a:pt x="10021" y="9302"/>
                </a:cubicBezTo>
                <a:cubicBezTo>
                  <a:pt x="10013" y="9327"/>
                  <a:pt x="10004" y="9351"/>
                  <a:pt x="9996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1840" y="3214800"/>
            <a:ext cx="13320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10393" y="8954"/>
                </a:moveTo>
                <a:cubicBezTo>
                  <a:pt x="10412" y="9070"/>
                  <a:pt x="10418" y="9181"/>
                  <a:pt x="10418" y="9302"/>
                </a:cubicBezTo>
                <a:cubicBezTo>
                  <a:pt x="10418" y="9310"/>
                  <a:pt x="10418" y="9319"/>
                  <a:pt x="10418" y="9327"/>
                </a:cubicBezTo>
              </a:path>
              <a:path w="373" h="472">
                <a:moveTo>
                  <a:pt x="10393" y="9004"/>
                </a:moveTo>
                <a:cubicBezTo>
                  <a:pt x="10559" y="9054"/>
                  <a:pt x="10621" y="9183"/>
                  <a:pt x="10716" y="9327"/>
                </a:cubicBezTo>
                <a:cubicBezTo>
                  <a:pt x="10732" y="9352"/>
                  <a:pt x="10749" y="9376"/>
                  <a:pt x="10765" y="9401"/>
                </a:cubicBezTo>
                <a:cubicBezTo>
                  <a:pt x="10757" y="9242"/>
                  <a:pt x="10733" y="9088"/>
                  <a:pt x="10716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32200" y="3152880"/>
            <a:ext cx="482760" cy="249120"/>
          </a:xfrm>
          <a:custGeom>
            <a:avLst/>
            <a:gdLst/>
            <a:ahLst/>
            <a:rect l="l" t="t" r="r" b="b"/>
            <a:pathLst>
              <a:path w="1341" h="696">
                <a:moveTo>
                  <a:pt x="13320" y="9054"/>
                </a:moveTo>
                <a:cubicBezTo>
                  <a:pt x="13353" y="8977"/>
                  <a:pt x="13362" y="8999"/>
                  <a:pt x="13295" y="8954"/>
                </a:cubicBezTo>
                <a:cubicBezTo>
                  <a:pt x="13169" y="9124"/>
                  <a:pt x="13151" y="9221"/>
                  <a:pt x="13171" y="9426"/>
                </a:cubicBezTo>
                <a:cubicBezTo>
                  <a:pt x="13343" y="9416"/>
                  <a:pt x="13507" y="9328"/>
                  <a:pt x="13419" y="9103"/>
                </a:cubicBezTo>
                <a:cubicBezTo>
                  <a:pt x="13373" y="9057"/>
                  <a:pt x="13361" y="9043"/>
                  <a:pt x="13320" y="9029"/>
                </a:cubicBezTo>
              </a:path>
              <a:path w="1341" h="696">
                <a:moveTo>
                  <a:pt x="13643" y="9054"/>
                </a:moveTo>
                <a:cubicBezTo>
                  <a:pt x="13643" y="9158"/>
                  <a:pt x="13578" y="9366"/>
                  <a:pt x="13742" y="9351"/>
                </a:cubicBezTo>
                <a:cubicBezTo>
                  <a:pt x="13876" y="9339"/>
                  <a:pt x="13889" y="9175"/>
                  <a:pt x="13940" y="9079"/>
                </a:cubicBezTo>
                <a:cubicBezTo>
                  <a:pt x="13870" y="9032"/>
                  <a:pt x="13932" y="9217"/>
                  <a:pt x="13940" y="9252"/>
                </a:cubicBezTo>
                <a:cubicBezTo>
                  <a:pt x="13971" y="9394"/>
                  <a:pt x="13947" y="9401"/>
                  <a:pt x="14064" y="9401"/>
                </a:cubicBezTo>
              </a:path>
              <a:path w="1341" h="696">
                <a:moveTo>
                  <a:pt x="14312" y="8756"/>
                </a:moveTo>
                <a:cubicBezTo>
                  <a:pt x="14319" y="8949"/>
                  <a:pt x="14330" y="9138"/>
                  <a:pt x="14362" y="9327"/>
                </a:cubicBezTo>
              </a:path>
              <a:path w="1341" h="696">
                <a:moveTo>
                  <a:pt x="14188" y="9079"/>
                </a:moveTo>
                <a:cubicBezTo>
                  <a:pt x="14102" y="9020"/>
                  <a:pt x="14312" y="9079"/>
                  <a:pt x="14387" y="9079"/>
                </a:cubicBezTo>
                <a:cubicBezTo>
                  <a:pt x="14420" y="9079"/>
                  <a:pt x="14453" y="9079"/>
                  <a:pt x="14486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2920" y="2795760"/>
            <a:ext cx="339480" cy="276120"/>
          </a:xfrm>
          <a:custGeom>
            <a:avLst/>
            <a:gdLst/>
            <a:ahLst/>
            <a:rect l="l" t="t" r="r" b="b"/>
            <a:pathLst>
              <a:path w="944" h="770">
                <a:moveTo>
                  <a:pt x="10145" y="7764"/>
                </a:moveTo>
                <a:cubicBezTo>
                  <a:pt x="10247" y="7934"/>
                  <a:pt x="10329" y="8107"/>
                  <a:pt x="10418" y="8285"/>
                </a:cubicBezTo>
              </a:path>
              <a:path w="944" h="770">
                <a:moveTo>
                  <a:pt x="10542" y="7838"/>
                </a:moveTo>
                <a:cubicBezTo>
                  <a:pt x="10445" y="8057"/>
                  <a:pt x="10350" y="8283"/>
                  <a:pt x="10269" y="8508"/>
                </a:cubicBezTo>
                <a:cubicBezTo>
                  <a:pt x="10269" y="8516"/>
                  <a:pt x="10269" y="8525"/>
                  <a:pt x="10269" y="8533"/>
                </a:cubicBezTo>
              </a:path>
              <a:path w="944" h="770">
                <a:moveTo>
                  <a:pt x="10740" y="8037"/>
                </a:moveTo>
                <a:cubicBezTo>
                  <a:pt x="10856" y="7996"/>
                  <a:pt x="10941" y="7971"/>
                  <a:pt x="11063" y="7962"/>
                </a:cubicBezTo>
              </a:path>
              <a:path w="944" h="770">
                <a:moveTo>
                  <a:pt x="10740" y="8136"/>
                </a:moveTo>
                <a:cubicBezTo>
                  <a:pt x="10860" y="8153"/>
                  <a:pt x="10971" y="8146"/>
                  <a:pt x="11088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6240" y="2751120"/>
            <a:ext cx="527040" cy="214200"/>
          </a:xfrm>
          <a:custGeom>
            <a:avLst/>
            <a:gdLst/>
            <a:ahLst/>
            <a:rect l="l" t="t" r="r" b="b"/>
            <a:pathLst>
              <a:path w="1464" h="596">
                <a:moveTo>
                  <a:pt x="11460" y="7789"/>
                </a:moveTo>
                <a:cubicBezTo>
                  <a:pt x="11537" y="7932"/>
                  <a:pt x="11614" y="8080"/>
                  <a:pt x="11708" y="8210"/>
                </a:cubicBezTo>
              </a:path>
              <a:path w="1464" h="596">
                <a:moveTo>
                  <a:pt x="11757" y="7739"/>
                </a:moveTo>
                <a:cubicBezTo>
                  <a:pt x="11620" y="7885"/>
                  <a:pt x="11550" y="8062"/>
                  <a:pt x="11435" y="8235"/>
                </a:cubicBezTo>
              </a:path>
              <a:path w="1464" h="596">
                <a:moveTo>
                  <a:pt x="12204" y="7789"/>
                </a:moveTo>
                <a:cubicBezTo>
                  <a:pt x="12163" y="7897"/>
                  <a:pt x="12155" y="8020"/>
                  <a:pt x="12129" y="8136"/>
                </a:cubicBezTo>
              </a:path>
              <a:path w="1464" h="596">
                <a:moveTo>
                  <a:pt x="12055" y="8012"/>
                </a:moveTo>
                <a:cubicBezTo>
                  <a:pt x="12172" y="7980"/>
                  <a:pt x="12256" y="7997"/>
                  <a:pt x="12378" y="8012"/>
                </a:cubicBezTo>
              </a:path>
              <a:path w="1464" h="596">
                <a:moveTo>
                  <a:pt x="12650" y="7813"/>
                </a:moveTo>
                <a:cubicBezTo>
                  <a:pt x="12604" y="7966"/>
                  <a:pt x="12599" y="7976"/>
                  <a:pt x="12774" y="7987"/>
                </a:cubicBezTo>
                <a:cubicBezTo>
                  <a:pt x="12799" y="7987"/>
                  <a:pt x="12824" y="7987"/>
                  <a:pt x="12849" y="7987"/>
                </a:cubicBezTo>
              </a:path>
              <a:path w="1464" h="596">
                <a:moveTo>
                  <a:pt x="12898" y="7640"/>
                </a:moveTo>
                <a:cubicBezTo>
                  <a:pt x="12875" y="7825"/>
                  <a:pt x="12809" y="8001"/>
                  <a:pt x="12774" y="8186"/>
                </a:cubicBezTo>
                <a:cubicBezTo>
                  <a:pt x="12774" y="8194"/>
                  <a:pt x="12774" y="8202"/>
                  <a:pt x="12774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06840" y="4394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021" y="12204"/>
                </a:moveTo>
                <a:lnTo>
                  <a:pt x="10021" y="122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97200" y="497376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0294" y="13816"/>
                </a:moveTo>
                <a:cubicBezTo>
                  <a:pt x="10286" y="13833"/>
                  <a:pt x="10277" y="13849"/>
                  <a:pt x="10269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5920" y="5680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071" y="15776"/>
                </a:moveTo>
                <a:lnTo>
                  <a:pt x="10071" y="157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7800" y="294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105" y="8186"/>
                </a:moveTo>
                <a:lnTo>
                  <a:pt x="12105" y="818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3027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74" y="8409"/>
                </a:moveTo>
                <a:lnTo>
                  <a:pt x="12774" y="840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6200" y="4197240"/>
            <a:ext cx="125640" cy="250920"/>
          </a:xfrm>
          <a:custGeom>
            <a:avLst/>
            <a:gdLst/>
            <a:ahLst/>
            <a:rect l="l" t="t" r="r" b="b"/>
            <a:pathLst>
              <a:path w="349" h="696">
                <a:moveTo>
                  <a:pt x="13395" y="11782"/>
                </a:moveTo>
                <a:cubicBezTo>
                  <a:pt x="13367" y="11700"/>
                  <a:pt x="13321" y="11970"/>
                  <a:pt x="13295" y="12055"/>
                </a:cubicBezTo>
                <a:cubicBezTo>
                  <a:pt x="13273" y="12126"/>
                  <a:pt x="13555" y="12041"/>
                  <a:pt x="13593" y="12030"/>
                </a:cubicBezTo>
              </a:path>
              <a:path w="349" h="696">
                <a:moveTo>
                  <a:pt x="13643" y="11683"/>
                </a:moveTo>
                <a:cubicBezTo>
                  <a:pt x="13643" y="11605"/>
                  <a:pt x="13619" y="12050"/>
                  <a:pt x="13618" y="12055"/>
                </a:cubicBezTo>
                <a:cubicBezTo>
                  <a:pt x="13602" y="12174"/>
                  <a:pt x="13578" y="12248"/>
                  <a:pt x="13618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5920" y="4884840"/>
            <a:ext cx="169920" cy="22356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3791" y="13568"/>
                </a:moveTo>
                <a:cubicBezTo>
                  <a:pt x="13720" y="13584"/>
                  <a:pt x="13433" y="13596"/>
                  <a:pt x="13395" y="13643"/>
                </a:cubicBezTo>
                <a:cubicBezTo>
                  <a:pt x="13348" y="13701"/>
                  <a:pt x="13370" y="13799"/>
                  <a:pt x="13370" y="13866"/>
                </a:cubicBezTo>
                <a:cubicBezTo>
                  <a:pt x="13467" y="13858"/>
                  <a:pt x="13555" y="13808"/>
                  <a:pt x="13643" y="13841"/>
                </a:cubicBezTo>
                <a:cubicBezTo>
                  <a:pt x="13736" y="13876"/>
                  <a:pt x="13785" y="13965"/>
                  <a:pt x="13767" y="14064"/>
                </a:cubicBezTo>
                <a:cubicBezTo>
                  <a:pt x="13747" y="14171"/>
                  <a:pt x="13556" y="14213"/>
                  <a:pt x="13469" y="14188"/>
                </a:cubicBezTo>
                <a:cubicBezTo>
                  <a:pt x="13395" y="14167"/>
                  <a:pt x="13356" y="14097"/>
                  <a:pt x="13320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3840" y="5464080"/>
            <a:ext cx="206280" cy="223920"/>
          </a:xfrm>
          <a:custGeom>
            <a:avLst/>
            <a:gdLst/>
            <a:ahLst/>
            <a:rect l="l" t="t" r="r" b="b"/>
            <a:pathLst>
              <a:path w="571" h="622">
                <a:moveTo>
                  <a:pt x="13494" y="15180"/>
                </a:moveTo>
                <a:cubicBezTo>
                  <a:pt x="13450" y="15278"/>
                  <a:pt x="13425" y="15375"/>
                  <a:pt x="13395" y="15478"/>
                </a:cubicBezTo>
                <a:cubicBezTo>
                  <a:pt x="13366" y="15574"/>
                  <a:pt x="13328" y="15606"/>
                  <a:pt x="13370" y="15701"/>
                </a:cubicBezTo>
                <a:cubicBezTo>
                  <a:pt x="13409" y="15788"/>
                  <a:pt x="13482" y="15796"/>
                  <a:pt x="13568" y="15801"/>
                </a:cubicBezTo>
                <a:cubicBezTo>
                  <a:pt x="13631" y="15805"/>
                  <a:pt x="13709" y="15794"/>
                  <a:pt x="13767" y="15776"/>
                </a:cubicBezTo>
                <a:cubicBezTo>
                  <a:pt x="13837" y="15754"/>
                  <a:pt x="13852" y="15704"/>
                  <a:pt x="13891" y="15652"/>
                </a:cubicBezTo>
                <a:cubicBezTo>
                  <a:pt x="13948" y="15575"/>
                  <a:pt x="13912" y="15541"/>
                  <a:pt x="13841" y="15503"/>
                </a:cubicBezTo>
                <a:cubicBezTo>
                  <a:pt x="13802" y="15482"/>
                  <a:pt x="13688" y="15455"/>
                  <a:pt x="13643" y="15478"/>
                </a:cubicBezTo>
                <a:cubicBezTo>
                  <a:pt x="13575" y="15512"/>
                  <a:pt x="13573" y="15635"/>
                  <a:pt x="13568" y="15701"/>
                </a:cubicBezTo>
                <a:cubicBezTo>
                  <a:pt x="13568" y="15743"/>
                  <a:pt x="13568" y="15768"/>
                  <a:pt x="13568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Write a function rule for the input-output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990720"/>
            <a:ext cx="582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Function Ru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2819520"/>
          <a:ext cx="2895840" cy="258768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990720" y="228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18000" y="206208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12551" y="5978"/>
                </a:moveTo>
                <a:cubicBezTo>
                  <a:pt x="12775" y="5978"/>
                  <a:pt x="12996" y="6000"/>
                  <a:pt x="13221" y="6003"/>
                </a:cubicBezTo>
                <a:cubicBezTo>
                  <a:pt x="13329" y="6003"/>
                  <a:pt x="13337" y="6003"/>
                  <a:pt x="13395" y="6003"/>
                </a:cubicBezTo>
              </a:path>
              <a:path w="944" h="695">
                <a:moveTo>
                  <a:pt x="13047" y="5730"/>
                </a:moveTo>
                <a:cubicBezTo>
                  <a:pt x="13210" y="5778"/>
                  <a:pt x="13344" y="5849"/>
                  <a:pt x="13494" y="5928"/>
                </a:cubicBezTo>
                <a:cubicBezTo>
                  <a:pt x="13398" y="6120"/>
                  <a:pt x="13269" y="6268"/>
                  <a:pt x="13122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7120" y="2062080"/>
            <a:ext cx="293760" cy="162000"/>
          </a:xfrm>
          <a:custGeom>
            <a:avLst/>
            <a:gdLst/>
            <a:ahLst/>
            <a:rect l="l" t="t" r="r" b="b"/>
            <a:pathLst>
              <a:path w="819" h="447">
                <a:moveTo>
                  <a:pt x="14238" y="5829"/>
                </a:moveTo>
                <a:cubicBezTo>
                  <a:pt x="14238" y="5918"/>
                  <a:pt x="14244" y="5992"/>
                  <a:pt x="14263" y="6077"/>
                </a:cubicBezTo>
              </a:path>
              <a:path w="819" h="447">
                <a:moveTo>
                  <a:pt x="13990" y="5730"/>
                </a:moveTo>
                <a:cubicBezTo>
                  <a:pt x="14114" y="5738"/>
                  <a:pt x="14327" y="5734"/>
                  <a:pt x="14436" y="5804"/>
                </a:cubicBezTo>
                <a:cubicBezTo>
                  <a:pt x="14444" y="5821"/>
                  <a:pt x="14453" y="5837"/>
                  <a:pt x="14461" y="5854"/>
                </a:cubicBezTo>
              </a:path>
              <a:path w="819" h="447">
                <a:moveTo>
                  <a:pt x="14015" y="6176"/>
                </a:moveTo>
                <a:cubicBezTo>
                  <a:pt x="14140" y="6169"/>
                  <a:pt x="14261" y="6152"/>
                  <a:pt x="14387" y="6152"/>
                </a:cubicBezTo>
              </a:path>
              <a:path w="819" h="447">
                <a:moveTo>
                  <a:pt x="14585" y="5804"/>
                </a:moveTo>
                <a:cubicBezTo>
                  <a:pt x="14557" y="5914"/>
                  <a:pt x="14547" y="6035"/>
                  <a:pt x="14536" y="6152"/>
                </a:cubicBezTo>
              </a:path>
              <a:path w="819" h="447">
                <a:moveTo>
                  <a:pt x="14560" y="5804"/>
                </a:moveTo>
                <a:cubicBezTo>
                  <a:pt x="14626" y="5922"/>
                  <a:pt x="14679" y="6037"/>
                  <a:pt x="14759" y="6152"/>
                </a:cubicBezTo>
                <a:cubicBezTo>
                  <a:pt x="14806" y="6022"/>
                  <a:pt x="14794" y="5937"/>
                  <a:pt x="14784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1800" y="2054160"/>
            <a:ext cx="455400" cy="187560"/>
          </a:xfrm>
          <a:custGeom>
            <a:avLst/>
            <a:gdLst/>
            <a:ahLst/>
            <a:rect l="l" t="t" r="r" b="b"/>
            <a:pathLst>
              <a:path w="1266" h="522">
                <a:moveTo>
                  <a:pt x="15627" y="5804"/>
                </a:moveTo>
                <a:lnTo>
                  <a:pt x="15627" y="5804"/>
                </a:lnTo>
              </a:path>
              <a:path w="1266" h="522">
                <a:moveTo>
                  <a:pt x="15627" y="5804"/>
                </a:moveTo>
                <a:cubicBezTo>
                  <a:pt x="15609" y="5777"/>
                  <a:pt x="15530" y="5774"/>
                  <a:pt x="15503" y="5829"/>
                </a:cubicBezTo>
                <a:cubicBezTo>
                  <a:pt x="15479" y="5877"/>
                  <a:pt x="15494" y="6060"/>
                  <a:pt x="15528" y="6102"/>
                </a:cubicBezTo>
                <a:cubicBezTo>
                  <a:pt x="15618" y="6213"/>
                  <a:pt x="15734" y="6107"/>
                  <a:pt x="15751" y="6003"/>
                </a:cubicBezTo>
                <a:cubicBezTo>
                  <a:pt x="15768" y="5900"/>
                  <a:pt x="15710" y="5852"/>
                  <a:pt x="15652" y="5779"/>
                </a:cubicBezTo>
              </a:path>
              <a:path w="1266" h="522">
                <a:moveTo>
                  <a:pt x="15850" y="5755"/>
                </a:moveTo>
                <a:cubicBezTo>
                  <a:pt x="15927" y="5876"/>
                  <a:pt x="15951" y="6010"/>
                  <a:pt x="15974" y="6152"/>
                </a:cubicBezTo>
                <a:cubicBezTo>
                  <a:pt x="15974" y="6160"/>
                  <a:pt x="15974" y="6168"/>
                  <a:pt x="15974" y="6176"/>
                </a:cubicBezTo>
              </a:path>
              <a:path w="1266" h="522">
                <a:moveTo>
                  <a:pt x="15850" y="5730"/>
                </a:moveTo>
                <a:cubicBezTo>
                  <a:pt x="15964" y="5701"/>
                  <a:pt x="16053" y="5686"/>
                  <a:pt x="16098" y="5829"/>
                </a:cubicBezTo>
                <a:cubicBezTo>
                  <a:pt x="16123" y="5909"/>
                  <a:pt x="16047" y="5898"/>
                  <a:pt x="15999" y="5904"/>
                </a:cubicBezTo>
              </a:path>
              <a:path w="1266" h="522">
                <a:moveTo>
                  <a:pt x="16222" y="5804"/>
                </a:moveTo>
                <a:cubicBezTo>
                  <a:pt x="16212" y="5913"/>
                  <a:pt x="16183" y="6019"/>
                  <a:pt x="16173" y="6127"/>
                </a:cubicBezTo>
                <a:cubicBezTo>
                  <a:pt x="16264" y="6150"/>
                  <a:pt x="16290" y="6161"/>
                  <a:pt x="16346" y="6127"/>
                </a:cubicBezTo>
              </a:path>
              <a:path w="1266" h="522">
                <a:moveTo>
                  <a:pt x="16197" y="6028"/>
                </a:moveTo>
                <a:cubicBezTo>
                  <a:pt x="16261" y="5986"/>
                  <a:pt x="16272" y="5969"/>
                  <a:pt x="16321" y="5978"/>
                </a:cubicBezTo>
              </a:path>
              <a:path w="1266" h="522">
                <a:moveTo>
                  <a:pt x="16247" y="5829"/>
                </a:moveTo>
                <a:lnTo>
                  <a:pt x="16247" y="5829"/>
                </a:lnTo>
              </a:path>
              <a:path w="1266" h="522">
                <a:moveTo>
                  <a:pt x="16470" y="5829"/>
                </a:moveTo>
                <a:cubicBezTo>
                  <a:pt x="16470" y="5874"/>
                  <a:pt x="16470" y="6190"/>
                  <a:pt x="16470" y="6003"/>
                </a:cubicBezTo>
                <a:cubicBezTo>
                  <a:pt x="16470" y="5863"/>
                  <a:pt x="16462" y="5781"/>
                  <a:pt x="16594" y="5755"/>
                </a:cubicBezTo>
                <a:cubicBezTo>
                  <a:pt x="16681" y="5884"/>
                  <a:pt x="16627" y="5858"/>
                  <a:pt x="16545" y="5953"/>
                </a:cubicBezTo>
                <a:cubicBezTo>
                  <a:pt x="16488" y="6019"/>
                  <a:pt x="16553" y="6055"/>
                  <a:pt x="16594" y="6102"/>
                </a:cubicBezTo>
              </a:path>
              <a:path w="1266" h="522">
                <a:moveTo>
                  <a:pt x="16768" y="6226"/>
                </a:moveTo>
                <a:lnTo>
                  <a:pt x="16768" y="62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97760" y="2071800"/>
            <a:ext cx="179280" cy="1350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17388" y="5854"/>
                </a:moveTo>
                <a:lnTo>
                  <a:pt x="17388" y="5829"/>
                </a:lnTo>
                <a:lnTo>
                  <a:pt x="17388" y="5904"/>
                </a:lnTo>
                <a:lnTo>
                  <a:pt x="17388" y="6003"/>
                </a:lnTo>
                <a:lnTo>
                  <a:pt x="17388" y="6102"/>
                </a:lnTo>
              </a:path>
              <a:path w="498" h="373">
                <a:moveTo>
                  <a:pt x="17537" y="5755"/>
                </a:moveTo>
                <a:cubicBezTo>
                  <a:pt x="17537" y="5879"/>
                  <a:pt x="17537" y="6003"/>
                  <a:pt x="17537" y="6127"/>
                </a:cubicBezTo>
              </a:path>
              <a:path w="498" h="373">
                <a:moveTo>
                  <a:pt x="17214" y="5978"/>
                </a:moveTo>
                <a:cubicBezTo>
                  <a:pt x="17343" y="5978"/>
                  <a:pt x="17463" y="5974"/>
                  <a:pt x="17587" y="6003"/>
                </a:cubicBezTo>
              </a:path>
              <a:path w="498" h="373">
                <a:moveTo>
                  <a:pt x="17289" y="6102"/>
                </a:moveTo>
                <a:cubicBezTo>
                  <a:pt x="17428" y="6102"/>
                  <a:pt x="17582" y="6079"/>
                  <a:pt x="17711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7880" y="214308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8132" y="5978"/>
                </a:moveTo>
                <a:cubicBezTo>
                  <a:pt x="18219" y="5956"/>
                  <a:pt x="18290" y="5953"/>
                  <a:pt x="18380" y="5953"/>
                </a:cubicBezTo>
              </a:path>
              <a:path w="249" h="150">
                <a:moveTo>
                  <a:pt x="18157" y="6102"/>
                </a:moveTo>
                <a:cubicBezTo>
                  <a:pt x="18215" y="6102"/>
                  <a:pt x="18273" y="6102"/>
                  <a:pt x="18331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044800"/>
            <a:ext cx="455760" cy="179280"/>
          </a:xfrm>
          <a:custGeom>
            <a:avLst/>
            <a:gdLst/>
            <a:ahLst/>
            <a:rect l="l" t="t" r="r" b="b"/>
            <a:pathLst>
              <a:path w="1266" h="497">
                <a:moveTo>
                  <a:pt x="19000" y="5928"/>
                </a:moveTo>
                <a:cubicBezTo>
                  <a:pt x="18889" y="5953"/>
                  <a:pt x="18837" y="5997"/>
                  <a:pt x="18802" y="6102"/>
                </a:cubicBezTo>
                <a:cubicBezTo>
                  <a:pt x="18923" y="6158"/>
                  <a:pt x="19032" y="6186"/>
                  <a:pt x="19100" y="6028"/>
                </a:cubicBezTo>
                <a:cubicBezTo>
                  <a:pt x="19100" y="5969"/>
                  <a:pt x="19097" y="5943"/>
                  <a:pt x="19075" y="5904"/>
                </a:cubicBezTo>
              </a:path>
              <a:path w="1266" h="497">
                <a:moveTo>
                  <a:pt x="19298" y="5879"/>
                </a:moveTo>
                <a:cubicBezTo>
                  <a:pt x="19298" y="5935"/>
                  <a:pt x="19264" y="6164"/>
                  <a:pt x="19372" y="6176"/>
                </a:cubicBezTo>
                <a:cubicBezTo>
                  <a:pt x="19505" y="6191"/>
                  <a:pt x="19568" y="6051"/>
                  <a:pt x="19596" y="5953"/>
                </a:cubicBezTo>
                <a:cubicBezTo>
                  <a:pt x="19580" y="6075"/>
                  <a:pt x="19557" y="6075"/>
                  <a:pt x="19645" y="6152"/>
                </a:cubicBezTo>
              </a:path>
              <a:path w="1266" h="497">
                <a:moveTo>
                  <a:pt x="19869" y="5680"/>
                </a:moveTo>
                <a:cubicBezTo>
                  <a:pt x="19895" y="5817"/>
                  <a:pt x="19912" y="5961"/>
                  <a:pt x="19918" y="6102"/>
                </a:cubicBezTo>
                <a:cubicBezTo>
                  <a:pt x="19918" y="6119"/>
                  <a:pt x="19918" y="6135"/>
                  <a:pt x="19918" y="6152"/>
                </a:cubicBezTo>
              </a:path>
              <a:path w="1266" h="497">
                <a:moveTo>
                  <a:pt x="19720" y="5879"/>
                </a:moveTo>
                <a:cubicBezTo>
                  <a:pt x="19840" y="5853"/>
                  <a:pt x="19924" y="5871"/>
                  <a:pt x="20042" y="5879"/>
                </a:cubicBezTo>
                <a:cubicBezTo>
                  <a:pt x="20050" y="5879"/>
                  <a:pt x="20059" y="5879"/>
                  <a:pt x="20067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26040" y="2320920"/>
            <a:ext cx="1857240" cy="528480"/>
          </a:xfrm>
          <a:custGeom>
            <a:avLst/>
            <a:gdLst/>
            <a:ahLst/>
            <a:rect l="l" t="t" r="r" b="b"/>
            <a:pathLst>
              <a:path w="5160" h="1465">
                <a:moveTo>
                  <a:pt x="14238" y="6796"/>
                </a:moveTo>
                <a:cubicBezTo>
                  <a:pt x="14368" y="6958"/>
                  <a:pt x="14498" y="7105"/>
                  <a:pt x="14585" y="7293"/>
                </a:cubicBezTo>
              </a:path>
              <a:path w="5160" h="1465">
                <a:moveTo>
                  <a:pt x="14610" y="6722"/>
                </a:moveTo>
                <a:cubicBezTo>
                  <a:pt x="14530" y="6899"/>
                  <a:pt x="14502" y="7073"/>
                  <a:pt x="14436" y="7243"/>
                </a:cubicBezTo>
                <a:cubicBezTo>
                  <a:pt x="14415" y="7287"/>
                  <a:pt x="14412" y="7299"/>
                  <a:pt x="14387" y="7317"/>
                </a:cubicBezTo>
              </a:path>
              <a:path w="5160" h="1465">
                <a:moveTo>
                  <a:pt x="15329" y="7342"/>
                </a:moveTo>
                <a:cubicBezTo>
                  <a:pt x="15362" y="7472"/>
                  <a:pt x="15449" y="7462"/>
                  <a:pt x="15577" y="7466"/>
                </a:cubicBezTo>
                <a:cubicBezTo>
                  <a:pt x="15696" y="7470"/>
                  <a:pt x="15804" y="7435"/>
                  <a:pt x="15900" y="7367"/>
                </a:cubicBezTo>
                <a:cubicBezTo>
                  <a:pt x="15984" y="7308"/>
                  <a:pt x="16053" y="7239"/>
                  <a:pt x="16098" y="7144"/>
                </a:cubicBezTo>
                <a:cubicBezTo>
                  <a:pt x="16147" y="7042"/>
                  <a:pt x="16155" y="6979"/>
                  <a:pt x="16123" y="6871"/>
                </a:cubicBezTo>
                <a:cubicBezTo>
                  <a:pt x="16108" y="6819"/>
                  <a:pt x="16103" y="6715"/>
                  <a:pt x="16073" y="6672"/>
                </a:cubicBezTo>
                <a:cubicBezTo>
                  <a:pt x="16016" y="6589"/>
                  <a:pt x="15876" y="6493"/>
                  <a:pt x="15776" y="6474"/>
                </a:cubicBezTo>
                <a:cubicBezTo>
                  <a:pt x="15679" y="6456"/>
                  <a:pt x="15620" y="6462"/>
                  <a:pt x="15528" y="6474"/>
                </a:cubicBezTo>
                <a:cubicBezTo>
                  <a:pt x="15417" y="6488"/>
                  <a:pt x="15384" y="6476"/>
                  <a:pt x="15304" y="6573"/>
                </a:cubicBezTo>
                <a:cubicBezTo>
                  <a:pt x="15255" y="6632"/>
                  <a:pt x="15238" y="6728"/>
                  <a:pt x="15205" y="6796"/>
                </a:cubicBezTo>
                <a:cubicBezTo>
                  <a:pt x="15173" y="6863"/>
                  <a:pt x="15180" y="6921"/>
                  <a:pt x="15180" y="6995"/>
                </a:cubicBezTo>
                <a:cubicBezTo>
                  <a:pt x="15180" y="7080"/>
                  <a:pt x="15192" y="7140"/>
                  <a:pt x="15205" y="7218"/>
                </a:cubicBezTo>
                <a:cubicBezTo>
                  <a:pt x="15220" y="7308"/>
                  <a:pt x="15253" y="7379"/>
                  <a:pt x="15329" y="7441"/>
                </a:cubicBezTo>
                <a:cubicBezTo>
                  <a:pt x="15438" y="7531"/>
                  <a:pt x="15496" y="7517"/>
                  <a:pt x="15627" y="7491"/>
                </a:cubicBezTo>
              </a:path>
              <a:path w="5160" h="1465">
                <a:moveTo>
                  <a:pt x="16644" y="7342"/>
                </a:moveTo>
                <a:cubicBezTo>
                  <a:pt x="16489" y="7342"/>
                  <a:pt x="16662" y="7342"/>
                  <a:pt x="16718" y="7342"/>
                </a:cubicBezTo>
                <a:cubicBezTo>
                  <a:pt x="16855" y="7342"/>
                  <a:pt x="16981" y="7357"/>
                  <a:pt x="17115" y="7367"/>
                </a:cubicBezTo>
                <a:cubicBezTo>
                  <a:pt x="17215" y="7375"/>
                  <a:pt x="17303" y="7359"/>
                  <a:pt x="17388" y="7342"/>
                </a:cubicBezTo>
                <a:cubicBezTo>
                  <a:pt x="17468" y="7326"/>
                  <a:pt x="17533" y="7347"/>
                  <a:pt x="17611" y="7317"/>
                </a:cubicBezTo>
                <a:cubicBezTo>
                  <a:pt x="17450" y="7317"/>
                  <a:pt x="17298" y="7309"/>
                  <a:pt x="17140" y="7293"/>
                </a:cubicBezTo>
                <a:cubicBezTo>
                  <a:pt x="17123" y="7293"/>
                  <a:pt x="17107" y="7293"/>
                  <a:pt x="17090" y="7293"/>
                </a:cubicBezTo>
              </a:path>
              <a:path w="5160" h="1465">
                <a:moveTo>
                  <a:pt x="17983" y="6896"/>
                </a:moveTo>
                <a:cubicBezTo>
                  <a:pt x="18118" y="6882"/>
                  <a:pt x="18219" y="6877"/>
                  <a:pt x="18355" y="6896"/>
                </a:cubicBezTo>
                <a:cubicBezTo>
                  <a:pt x="18363" y="6896"/>
                  <a:pt x="18372" y="6896"/>
                  <a:pt x="18380" y="6896"/>
                </a:cubicBezTo>
              </a:path>
              <a:path w="5160" h="1465">
                <a:moveTo>
                  <a:pt x="17959" y="7119"/>
                </a:moveTo>
                <a:cubicBezTo>
                  <a:pt x="18093" y="7119"/>
                  <a:pt x="18230" y="7102"/>
                  <a:pt x="18355" y="7144"/>
                </a:cubicBezTo>
              </a:path>
              <a:path w="5160" h="1465">
                <a:moveTo>
                  <a:pt x="18827" y="6945"/>
                </a:moveTo>
                <a:cubicBezTo>
                  <a:pt x="18977" y="6975"/>
                  <a:pt x="19051" y="7060"/>
                  <a:pt x="19149" y="7193"/>
                </a:cubicBezTo>
                <a:cubicBezTo>
                  <a:pt x="19157" y="7210"/>
                  <a:pt x="19166" y="7226"/>
                  <a:pt x="19174" y="7243"/>
                </a:cubicBezTo>
              </a:path>
              <a:path w="5160" h="1465">
                <a:moveTo>
                  <a:pt x="19397" y="6772"/>
                </a:moveTo>
                <a:cubicBezTo>
                  <a:pt x="19305" y="6981"/>
                  <a:pt x="19197" y="7201"/>
                  <a:pt x="19124" y="7417"/>
                </a:cubicBezTo>
                <a:cubicBezTo>
                  <a:pt x="19070" y="7578"/>
                  <a:pt x="19058" y="7766"/>
                  <a:pt x="1897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80160" y="3009960"/>
            <a:ext cx="2221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18901" y="8483"/>
                </a:moveTo>
                <a:cubicBezTo>
                  <a:pt x="18826" y="8319"/>
                  <a:pt x="18686" y="8324"/>
                  <a:pt x="18579" y="8508"/>
                </a:cubicBezTo>
                <a:cubicBezTo>
                  <a:pt x="18571" y="8541"/>
                  <a:pt x="18562" y="8574"/>
                  <a:pt x="18554" y="8607"/>
                </a:cubicBezTo>
                <a:cubicBezTo>
                  <a:pt x="18679" y="8662"/>
                  <a:pt x="18831" y="8742"/>
                  <a:pt x="18901" y="8558"/>
                </a:cubicBezTo>
                <a:cubicBezTo>
                  <a:pt x="18901" y="8490"/>
                  <a:pt x="18898" y="8471"/>
                  <a:pt x="18926" y="8434"/>
                </a:cubicBezTo>
                <a:cubicBezTo>
                  <a:pt x="18912" y="8685"/>
                  <a:pt x="18813" y="8934"/>
                  <a:pt x="18802" y="9178"/>
                </a:cubicBezTo>
                <a:cubicBezTo>
                  <a:pt x="18823" y="9323"/>
                  <a:pt x="18816" y="9357"/>
                  <a:pt x="18876" y="9426"/>
                </a:cubicBezTo>
                <a:cubicBezTo>
                  <a:pt x="19097" y="9382"/>
                  <a:pt x="19143" y="9338"/>
                  <a:pt x="19174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68920" y="3044880"/>
            <a:ext cx="303120" cy="260280"/>
          </a:xfrm>
          <a:custGeom>
            <a:avLst/>
            <a:gdLst/>
            <a:ahLst/>
            <a:rect l="l" t="t" r="r" b="b"/>
            <a:pathLst>
              <a:path w="844" h="721">
                <a:moveTo>
                  <a:pt x="13618" y="8607"/>
                </a:moveTo>
                <a:cubicBezTo>
                  <a:pt x="13643" y="8759"/>
                  <a:pt x="13659" y="8922"/>
                  <a:pt x="13643" y="9079"/>
                </a:cubicBezTo>
                <a:cubicBezTo>
                  <a:pt x="13635" y="9112"/>
                  <a:pt x="13626" y="9145"/>
                  <a:pt x="13618" y="9178"/>
                </a:cubicBezTo>
              </a:path>
              <a:path w="844" h="721">
                <a:moveTo>
                  <a:pt x="13246" y="8508"/>
                </a:moveTo>
                <a:cubicBezTo>
                  <a:pt x="13616" y="8442"/>
                  <a:pt x="13819" y="8424"/>
                  <a:pt x="14089" y="8682"/>
                </a:cubicBezTo>
                <a:cubicBezTo>
                  <a:pt x="13969" y="8894"/>
                  <a:pt x="13863" y="8905"/>
                  <a:pt x="13618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27320" y="3848040"/>
            <a:ext cx="2544840" cy="608040"/>
          </a:xfrm>
          <a:custGeom>
            <a:avLst/>
            <a:gdLst/>
            <a:ahLst/>
            <a:rect l="l" t="t" r="r" b="b"/>
            <a:pathLst>
              <a:path w="7070" h="1688">
                <a:moveTo>
                  <a:pt x="13146" y="11336"/>
                </a:moveTo>
                <a:cubicBezTo>
                  <a:pt x="13297" y="11557"/>
                  <a:pt x="13443" y="11775"/>
                  <a:pt x="13643" y="11956"/>
                </a:cubicBezTo>
                <a:cubicBezTo>
                  <a:pt x="13676" y="11981"/>
                  <a:pt x="13709" y="12005"/>
                  <a:pt x="13742" y="12030"/>
                </a:cubicBezTo>
              </a:path>
              <a:path w="7070" h="1688">
                <a:moveTo>
                  <a:pt x="13692" y="11212"/>
                </a:moveTo>
                <a:cubicBezTo>
                  <a:pt x="13637" y="11414"/>
                  <a:pt x="13501" y="11608"/>
                  <a:pt x="13419" y="11807"/>
                </a:cubicBezTo>
                <a:cubicBezTo>
                  <a:pt x="13381" y="11900"/>
                  <a:pt x="13368" y="11997"/>
                  <a:pt x="13320" y="12080"/>
                </a:cubicBezTo>
              </a:path>
              <a:path w="7070" h="1688">
                <a:moveTo>
                  <a:pt x="14560" y="11485"/>
                </a:moveTo>
                <a:cubicBezTo>
                  <a:pt x="14552" y="11468"/>
                  <a:pt x="14544" y="11452"/>
                  <a:pt x="14536" y="11435"/>
                </a:cubicBezTo>
                <a:cubicBezTo>
                  <a:pt x="14549" y="11591"/>
                  <a:pt x="14544" y="11725"/>
                  <a:pt x="14536" y="11881"/>
                </a:cubicBezTo>
              </a:path>
              <a:path w="7070" h="1688">
                <a:moveTo>
                  <a:pt x="14312" y="11683"/>
                </a:moveTo>
                <a:cubicBezTo>
                  <a:pt x="14406" y="11674"/>
                  <a:pt x="14514" y="11636"/>
                  <a:pt x="14610" y="11658"/>
                </a:cubicBezTo>
                <a:cubicBezTo>
                  <a:pt x="14659" y="11669"/>
                  <a:pt x="14681" y="11683"/>
                  <a:pt x="14734" y="11683"/>
                </a:cubicBezTo>
              </a:path>
              <a:path w="7070" h="1688">
                <a:moveTo>
                  <a:pt x="15900" y="11237"/>
                </a:moveTo>
                <a:cubicBezTo>
                  <a:pt x="15820" y="11252"/>
                  <a:pt x="15494" y="11271"/>
                  <a:pt x="15453" y="11336"/>
                </a:cubicBezTo>
                <a:cubicBezTo>
                  <a:pt x="15382" y="11448"/>
                  <a:pt x="15442" y="11614"/>
                  <a:pt x="15453" y="11733"/>
                </a:cubicBezTo>
                <a:cubicBezTo>
                  <a:pt x="15565" y="11621"/>
                  <a:pt x="15630" y="11547"/>
                  <a:pt x="15801" y="11559"/>
                </a:cubicBezTo>
                <a:cubicBezTo>
                  <a:pt x="15934" y="11568"/>
                  <a:pt x="16092" y="11728"/>
                  <a:pt x="15949" y="11857"/>
                </a:cubicBezTo>
                <a:cubicBezTo>
                  <a:pt x="15821" y="11973"/>
                  <a:pt x="15662" y="11986"/>
                  <a:pt x="15503" y="12005"/>
                </a:cubicBezTo>
              </a:path>
              <a:path w="7070" h="1688">
                <a:moveTo>
                  <a:pt x="16545" y="11460"/>
                </a:moveTo>
                <a:cubicBezTo>
                  <a:pt x="16679" y="11467"/>
                  <a:pt x="16807" y="11485"/>
                  <a:pt x="16942" y="11485"/>
                </a:cubicBezTo>
              </a:path>
              <a:path w="7070" h="1688">
                <a:moveTo>
                  <a:pt x="16594" y="11733"/>
                </a:moveTo>
                <a:cubicBezTo>
                  <a:pt x="16716" y="11733"/>
                  <a:pt x="16802" y="11718"/>
                  <a:pt x="16917" y="11683"/>
                </a:cubicBezTo>
              </a:path>
              <a:path w="7070" h="1688">
                <a:moveTo>
                  <a:pt x="17264" y="11435"/>
                </a:moveTo>
                <a:cubicBezTo>
                  <a:pt x="17423" y="11515"/>
                  <a:pt x="17606" y="11628"/>
                  <a:pt x="17735" y="11757"/>
                </a:cubicBezTo>
                <a:cubicBezTo>
                  <a:pt x="17778" y="11821"/>
                  <a:pt x="17781" y="11846"/>
                  <a:pt x="17835" y="11832"/>
                </a:cubicBezTo>
              </a:path>
              <a:path w="7070" h="1688">
                <a:moveTo>
                  <a:pt x="17859" y="11261"/>
                </a:moveTo>
                <a:cubicBezTo>
                  <a:pt x="17842" y="11369"/>
                  <a:pt x="17802" y="11474"/>
                  <a:pt x="17785" y="11584"/>
                </a:cubicBezTo>
                <a:cubicBezTo>
                  <a:pt x="17746" y="11840"/>
                  <a:pt x="17743" y="12098"/>
                  <a:pt x="17711" y="12353"/>
                </a:cubicBezTo>
              </a:path>
              <a:path w="7070" h="1688">
                <a:moveTo>
                  <a:pt x="12551" y="10815"/>
                </a:moveTo>
                <a:cubicBezTo>
                  <a:pt x="12634" y="11071"/>
                  <a:pt x="12689" y="11313"/>
                  <a:pt x="12725" y="11584"/>
                </a:cubicBezTo>
                <a:cubicBezTo>
                  <a:pt x="12757" y="11830"/>
                  <a:pt x="12743" y="12087"/>
                  <a:pt x="12675" y="12328"/>
                </a:cubicBezTo>
                <a:cubicBezTo>
                  <a:pt x="12667" y="12345"/>
                  <a:pt x="12658" y="12361"/>
                  <a:pt x="12650" y="12378"/>
                </a:cubicBezTo>
                <a:cubicBezTo>
                  <a:pt x="12793" y="12353"/>
                  <a:pt x="12929" y="12314"/>
                  <a:pt x="13072" y="12278"/>
                </a:cubicBezTo>
                <a:cubicBezTo>
                  <a:pt x="13412" y="12193"/>
                  <a:pt x="13769" y="12170"/>
                  <a:pt x="14114" y="12105"/>
                </a:cubicBezTo>
                <a:cubicBezTo>
                  <a:pt x="14402" y="12050"/>
                  <a:pt x="14697" y="12020"/>
                  <a:pt x="14982" y="11956"/>
                </a:cubicBezTo>
                <a:cubicBezTo>
                  <a:pt x="15216" y="11903"/>
                  <a:pt x="15435" y="11826"/>
                  <a:pt x="15677" y="11807"/>
                </a:cubicBezTo>
                <a:cubicBezTo>
                  <a:pt x="15834" y="11795"/>
                  <a:pt x="15991" y="11766"/>
                  <a:pt x="16148" y="11757"/>
                </a:cubicBezTo>
                <a:cubicBezTo>
                  <a:pt x="16334" y="11746"/>
                  <a:pt x="16511" y="11772"/>
                  <a:pt x="16694" y="11782"/>
                </a:cubicBezTo>
                <a:cubicBezTo>
                  <a:pt x="16928" y="11795"/>
                  <a:pt x="17157" y="11831"/>
                  <a:pt x="17388" y="11881"/>
                </a:cubicBezTo>
                <a:cubicBezTo>
                  <a:pt x="17480" y="11904"/>
                  <a:pt x="17505" y="11910"/>
                  <a:pt x="17562" y="11931"/>
                </a:cubicBezTo>
              </a:path>
              <a:path w="7070" h="1688">
                <a:moveTo>
                  <a:pt x="17413" y="11881"/>
                </a:moveTo>
                <a:cubicBezTo>
                  <a:pt x="17519" y="11866"/>
                  <a:pt x="17620" y="11857"/>
                  <a:pt x="17735" y="11857"/>
                </a:cubicBezTo>
                <a:cubicBezTo>
                  <a:pt x="17845" y="11857"/>
                  <a:pt x="17931" y="11866"/>
                  <a:pt x="18033" y="11881"/>
                </a:cubicBezTo>
                <a:cubicBezTo>
                  <a:pt x="18107" y="11892"/>
                  <a:pt x="18182" y="11895"/>
                  <a:pt x="18256" y="11906"/>
                </a:cubicBezTo>
                <a:cubicBezTo>
                  <a:pt x="18249" y="11715"/>
                  <a:pt x="18216" y="11527"/>
                  <a:pt x="18207" y="11336"/>
                </a:cubicBezTo>
                <a:cubicBezTo>
                  <a:pt x="18198" y="11137"/>
                  <a:pt x="18217" y="10913"/>
                  <a:pt x="18182" y="10716"/>
                </a:cubicBezTo>
                <a:cubicBezTo>
                  <a:pt x="18174" y="10708"/>
                  <a:pt x="18165" y="10699"/>
                  <a:pt x="18157" y="10691"/>
                </a:cubicBezTo>
                <a:cubicBezTo>
                  <a:pt x="17958" y="10760"/>
                  <a:pt x="17779" y="10805"/>
                  <a:pt x="17562" y="10815"/>
                </a:cubicBezTo>
                <a:cubicBezTo>
                  <a:pt x="17256" y="10830"/>
                  <a:pt x="16949" y="10816"/>
                  <a:pt x="16644" y="10840"/>
                </a:cubicBezTo>
                <a:cubicBezTo>
                  <a:pt x="16421" y="10857"/>
                  <a:pt x="16195" y="10863"/>
                  <a:pt x="15974" y="10889"/>
                </a:cubicBezTo>
                <a:cubicBezTo>
                  <a:pt x="15686" y="10923"/>
                  <a:pt x="15395" y="10913"/>
                  <a:pt x="15106" y="10939"/>
                </a:cubicBezTo>
                <a:cubicBezTo>
                  <a:pt x="14819" y="10965"/>
                  <a:pt x="14526" y="10997"/>
                  <a:pt x="14238" y="11013"/>
                </a:cubicBezTo>
                <a:cubicBezTo>
                  <a:pt x="13984" y="11027"/>
                  <a:pt x="13723" y="11015"/>
                  <a:pt x="13469" y="11038"/>
                </a:cubicBezTo>
                <a:cubicBezTo>
                  <a:pt x="13266" y="11056"/>
                  <a:pt x="13072" y="11120"/>
                  <a:pt x="12874" y="11162"/>
                </a:cubicBezTo>
                <a:cubicBezTo>
                  <a:pt x="12790" y="11180"/>
                  <a:pt x="12702" y="11186"/>
                  <a:pt x="12626" y="11212"/>
                </a:cubicBezTo>
                <a:cubicBezTo>
                  <a:pt x="12569" y="11212"/>
                  <a:pt x="12548" y="11217"/>
                  <a:pt x="12526" y="11261"/>
                </a:cubicBezTo>
              </a:path>
              <a:path w="7070" h="1688">
                <a:moveTo>
                  <a:pt x="12526" y="11857"/>
                </a:moveTo>
                <a:cubicBezTo>
                  <a:pt x="12266" y="11838"/>
                  <a:pt x="12022" y="11824"/>
                  <a:pt x="11757" y="11857"/>
                </a:cubicBezTo>
                <a:cubicBezTo>
                  <a:pt x="11581" y="11879"/>
                  <a:pt x="11410" y="11931"/>
                  <a:pt x="11237" y="11956"/>
                </a:cubicBezTo>
              </a:path>
              <a:path w="7070" h="1688">
                <a:moveTo>
                  <a:pt x="11485" y="11584"/>
                </a:moveTo>
                <a:cubicBezTo>
                  <a:pt x="11405" y="11766"/>
                  <a:pt x="11276" y="11914"/>
                  <a:pt x="11187" y="12080"/>
                </a:cubicBezTo>
                <a:cubicBezTo>
                  <a:pt x="11187" y="12096"/>
                  <a:pt x="11187" y="12113"/>
                  <a:pt x="11187" y="12129"/>
                </a:cubicBezTo>
                <a:cubicBezTo>
                  <a:pt x="11366" y="12168"/>
                  <a:pt x="11532" y="12246"/>
                  <a:pt x="11708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2608200"/>
            <a:ext cx="679320" cy="187560"/>
          </a:xfrm>
          <a:custGeom>
            <a:avLst/>
            <a:gdLst/>
            <a:ahLst/>
            <a:rect l="l" t="t" r="r" b="b"/>
            <a:pathLst>
              <a:path w="1886" h="522">
                <a:moveTo>
                  <a:pt x="744" y="7317"/>
                </a:moveTo>
                <a:cubicBezTo>
                  <a:pt x="699" y="7318"/>
                  <a:pt x="727" y="7521"/>
                  <a:pt x="670" y="7615"/>
                </a:cubicBezTo>
                <a:cubicBezTo>
                  <a:pt x="645" y="7640"/>
                  <a:pt x="620" y="7664"/>
                  <a:pt x="595" y="7689"/>
                </a:cubicBezTo>
              </a:path>
              <a:path w="1886" h="522">
                <a:moveTo>
                  <a:pt x="223" y="7243"/>
                </a:moveTo>
                <a:cubicBezTo>
                  <a:pt x="455" y="7258"/>
                  <a:pt x="685" y="7302"/>
                  <a:pt x="918" y="7317"/>
                </a:cubicBezTo>
                <a:cubicBezTo>
                  <a:pt x="982" y="7321"/>
                  <a:pt x="1051" y="7317"/>
                  <a:pt x="1116" y="7317"/>
                </a:cubicBezTo>
              </a:path>
              <a:path w="1886" h="522">
                <a:moveTo>
                  <a:pt x="99" y="7714"/>
                </a:moveTo>
                <a:cubicBezTo>
                  <a:pt x="249" y="7648"/>
                  <a:pt x="382" y="7643"/>
                  <a:pt x="546" y="7640"/>
                </a:cubicBezTo>
                <a:cubicBezTo>
                  <a:pt x="645" y="7638"/>
                  <a:pt x="744" y="7640"/>
                  <a:pt x="843" y="7640"/>
                </a:cubicBezTo>
              </a:path>
              <a:path w="1886" h="522">
                <a:moveTo>
                  <a:pt x="1191" y="7565"/>
                </a:moveTo>
                <a:cubicBezTo>
                  <a:pt x="1169" y="7632"/>
                  <a:pt x="1164" y="7650"/>
                  <a:pt x="1141" y="7689"/>
                </a:cubicBezTo>
                <a:cubicBezTo>
                  <a:pt x="1096" y="7590"/>
                  <a:pt x="1131" y="7537"/>
                  <a:pt x="1240" y="7466"/>
                </a:cubicBezTo>
                <a:cubicBezTo>
                  <a:pt x="1284" y="7437"/>
                  <a:pt x="1385" y="7390"/>
                  <a:pt x="1439" y="7417"/>
                </a:cubicBezTo>
                <a:cubicBezTo>
                  <a:pt x="1591" y="7492"/>
                  <a:pt x="1423" y="7584"/>
                  <a:pt x="1339" y="7640"/>
                </a:cubicBezTo>
              </a:path>
              <a:path w="1886" h="522">
                <a:moveTo>
                  <a:pt x="1488" y="7491"/>
                </a:moveTo>
                <a:cubicBezTo>
                  <a:pt x="1449" y="7544"/>
                  <a:pt x="1415" y="7590"/>
                  <a:pt x="1439" y="7665"/>
                </a:cubicBezTo>
                <a:cubicBezTo>
                  <a:pt x="1464" y="7743"/>
                  <a:pt x="1521" y="7732"/>
                  <a:pt x="1588" y="7739"/>
                </a:cubicBezTo>
              </a:path>
              <a:path w="1886" h="522">
                <a:moveTo>
                  <a:pt x="1662" y="7466"/>
                </a:moveTo>
                <a:cubicBezTo>
                  <a:pt x="1679" y="7466"/>
                  <a:pt x="1695" y="7466"/>
                  <a:pt x="1712" y="7466"/>
                </a:cubicBezTo>
                <a:cubicBezTo>
                  <a:pt x="1632" y="7355"/>
                  <a:pt x="1555" y="7391"/>
                  <a:pt x="1463" y="7491"/>
                </a:cubicBezTo>
                <a:cubicBezTo>
                  <a:pt x="1306" y="7661"/>
                  <a:pt x="1510" y="7728"/>
                  <a:pt x="1637" y="7764"/>
                </a:cubicBezTo>
              </a:path>
              <a:path w="1886" h="522">
                <a:moveTo>
                  <a:pt x="1984" y="7640"/>
                </a:moveTo>
                <a:lnTo>
                  <a:pt x="1984" y="764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7720" y="2544840"/>
            <a:ext cx="455400" cy="169920"/>
          </a:xfrm>
          <a:custGeom>
            <a:avLst/>
            <a:gdLst/>
            <a:ahLst/>
            <a:rect l="l" t="t" r="r" b="b"/>
            <a:pathLst>
              <a:path w="1266" h="473">
                <a:moveTo>
                  <a:pt x="3026" y="7193"/>
                </a:moveTo>
                <a:cubicBezTo>
                  <a:pt x="3002" y="7309"/>
                  <a:pt x="2988" y="7432"/>
                  <a:pt x="2952" y="7541"/>
                </a:cubicBezTo>
              </a:path>
              <a:path w="1266" h="473">
                <a:moveTo>
                  <a:pt x="2828" y="7293"/>
                </a:moveTo>
                <a:cubicBezTo>
                  <a:pt x="2964" y="7293"/>
                  <a:pt x="3091" y="7310"/>
                  <a:pt x="3225" y="7317"/>
                </a:cubicBezTo>
                <a:cubicBezTo>
                  <a:pt x="3233" y="7317"/>
                  <a:pt x="3241" y="7317"/>
                  <a:pt x="3249" y="7317"/>
                </a:cubicBezTo>
              </a:path>
              <a:path w="1266" h="473">
                <a:moveTo>
                  <a:pt x="3101" y="7119"/>
                </a:moveTo>
                <a:cubicBezTo>
                  <a:pt x="3054" y="7024"/>
                  <a:pt x="3013" y="7232"/>
                  <a:pt x="2977" y="7317"/>
                </a:cubicBezTo>
              </a:path>
              <a:path w="1266" h="473">
                <a:moveTo>
                  <a:pt x="3770" y="7243"/>
                </a:moveTo>
                <a:cubicBezTo>
                  <a:pt x="3841" y="7320"/>
                  <a:pt x="3911" y="7392"/>
                  <a:pt x="3944" y="7491"/>
                </a:cubicBezTo>
              </a:path>
              <a:path w="1266" h="473">
                <a:moveTo>
                  <a:pt x="4093" y="7193"/>
                </a:moveTo>
                <a:cubicBezTo>
                  <a:pt x="3993" y="7264"/>
                  <a:pt x="3874" y="7302"/>
                  <a:pt x="3770" y="7367"/>
                </a:cubicBezTo>
                <a:cubicBezTo>
                  <a:pt x="3738" y="7387"/>
                  <a:pt x="3695" y="7442"/>
                  <a:pt x="3671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3044880"/>
            <a:ext cx="403200" cy="36648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248" y="8558"/>
                </a:moveTo>
                <a:cubicBezTo>
                  <a:pt x="248" y="8690"/>
                  <a:pt x="248" y="8822"/>
                  <a:pt x="248" y="8954"/>
                </a:cubicBezTo>
              </a:path>
              <a:path w="1117" h="1018">
                <a:moveTo>
                  <a:pt x="99" y="8508"/>
                </a:moveTo>
                <a:cubicBezTo>
                  <a:pt x="266" y="8473"/>
                  <a:pt x="535" y="8413"/>
                  <a:pt x="595" y="8657"/>
                </a:cubicBezTo>
                <a:cubicBezTo>
                  <a:pt x="631" y="8803"/>
                  <a:pt x="451" y="8870"/>
                  <a:pt x="347" y="8880"/>
                </a:cubicBezTo>
                <a:cubicBezTo>
                  <a:pt x="248" y="8880"/>
                  <a:pt x="232" y="8880"/>
                  <a:pt x="174" y="8880"/>
                </a:cubicBezTo>
              </a:path>
              <a:path w="1117" h="1018">
                <a:moveTo>
                  <a:pt x="719" y="8756"/>
                </a:moveTo>
                <a:cubicBezTo>
                  <a:pt x="736" y="8762"/>
                  <a:pt x="846" y="8809"/>
                  <a:pt x="868" y="8781"/>
                </a:cubicBezTo>
                <a:cubicBezTo>
                  <a:pt x="868" y="8773"/>
                  <a:pt x="868" y="8764"/>
                  <a:pt x="868" y="8756"/>
                </a:cubicBezTo>
                <a:cubicBezTo>
                  <a:pt x="819" y="8699"/>
                  <a:pt x="774" y="8699"/>
                  <a:pt x="719" y="8657"/>
                </a:cubicBezTo>
                <a:cubicBezTo>
                  <a:pt x="676" y="8743"/>
                  <a:pt x="572" y="8876"/>
                  <a:pt x="719" y="8930"/>
                </a:cubicBezTo>
                <a:cubicBezTo>
                  <a:pt x="802" y="8960"/>
                  <a:pt x="849" y="8963"/>
                  <a:pt x="918" y="8930"/>
                </a:cubicBezTo>
              </a:path>
              <a:path w="1117" h="1018">
                <a:moveTo>
                  <a:pt x="1191" y="8682"/>
                </a:moveTo>
                <a:cubicBezTo>
                  <a:pt x="1161" y="8652"/>
                  <a:pt x="1147" y="8641"/>
                  <a:pt x="1116" y="8632"/>
                </a:cubicBezTo>
                <a:cubicBezTo>
                  <a:pt x="1073" y="8679"/>
                  <a:pt x="886" y="8851"/>
                  <a:pt x="1042" y="8905"/>
                </a:cubicBezTo>
                <a:cubicBezTo>
                  <a:pt x="1133" y="8905"/>
                  <a:pt x="1157" y="8905"/>
                  <a:pt x="1215" y="8905"/>
                </a:cubicBezTo>
              </a:path>
              <a:path w="1117" h="1018">
                <a:moveTo>
                  <a:pt x="620" y="9475"/>
                </a:moveTo>
                <a:cubicBezTo>
                  <a:pt x="757" y="9475"/>
                  <a:pt x="883" y="9471"/>
                  <a:pt x="1017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040" y="3367080"/>
            <a:ext cx="125280" cy="1252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538" y="9451"/>
                </a:moveTo>
                <a:cubicBezTo>
                  <a:pt x="1634" y="9451"/>
                  <a:pt x="1721" y="9462"/>
                  <a:pt x="1811" y="9475"/>
                </a:cubicBezTo>
                <a:cubicBezTo>
                  <a:pt x="1852" y="9475"/>
                  <a:pt x="1860" y="9475"/>
                  <a:pt x="1885" y="9475"/>
                </a:cubicBezTo>
              </a:path>
              <a:path w="348" h="349">
                <a:moveTo>
                  <a:pt x="1736" y="9351"/>
                </a:moveTo>
                <a:lnTo>
                  <a:pt x="1736" y="9351"/>
                </a:lnTo>
              </a:path>
              <a:path w="348" h="349">
                <a:moveTo>
                  <a:pt x="1736" y="9699"/>
                </a:moveTo>
                <a:lnTo>
                  <a:pt x="1736" y="96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unction: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input has exactly one output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209680"/>
          <a:ext cx="2514600" cy="26208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410080" y="2286000"/>
          <a:ext cx="2210040" cy="2742840"/>
        </p:xfrm>
        <a:graphic>
          <a:graphicData uri="http://schemas.openxmlformats.org/drawingml/2006/table">
            <a:tbl>
              <a:tblPr/>
              <a:tblGrid>
                <a:gridCol w="1104840"/>
                <a:gridCol w="110520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295280" y="5029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se function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2 Objective: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udents will interpret and write a rule for a one-operation function tabl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 input-output table using domain of 10, 20,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962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 +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581120" cy="134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25840" y="2160720"/>
            <a:ext cx="1017360" cy="1054080"/>
          </a:xfrm>
          <a:custGeom>
            <a:avLst/>
            <a:gdLst/>
            <a:ahLst/>
            <a:rect l="l" t="t" r="r" b="b"/>
            <a:pathLst>
              <a:path w="2828" h="2928">
                <a:moveTo>
                  <a:pt x="7491" y="6524"/>
                </a:moveTo>
                <a:cubicBezTo>
                  <a:pt x="7437" y="6663"/>
                  <a:pt x="7399" y="6769"/>
                  <a:pt x="7417" y="6921"/>
                </a:cubicBezTo>
                <a:cubicBezTo>
                  <a:pt x="7433" y="7058"/>
                  <a:pt x="7417" y="7177"/>
                  <a:pt x="7417" y="7317"/>
                </a:cubicBezTo>
                <a:cubicBezTo>
                  <a:pt x="7417" y="7486"/>
                  <a:pt x="7406" y="7647"/>
                  <a:pt x="7392" y="7813"/>
                </a:cubicBezTo>
                <a:cubicBezTo>
                  <a:pt x="7380" y="7953"/>
                  <a:pt x="7378" y="8096"/>
                  <a:pt x="7367" y="8235"/>
                </a:cubicBezTo>
                <a:cubicBezTo>
                  <a:pt x="7356" y="8375"/>
                  <a:pt x="7352" y="8517"/>
                  <a:pt x="7342" y="8657"/>
                </a:cubicBezTo>
                <a:cubicBezTo>
                  <a:pt x="7336" y="8740"/>
                  <a:pt x="7321" y="8800"/>
                  <a:pt x="7317" y="8880"/>
                </a:cubicBezTo>
                <a:cubicBezTo>
                  <a:pt x="7317" y="8897"/>
                  <a:pt x="7317" y="8913"/>
                  <a:pt x="7317" y="8930"/>
                </a:cubicBezTo>
              </a:path>
              <a:path w="2828" h="2928">
                <a:moveTo>
                  <a:pt x="7466" y="6400"/>
                </a:moveTo>
                <a:cubicBezTo>
                  <a:pt x="7572" y="6404"/>
                  <a:pt x="7661" y="6401"/>
                  <a:pt x="7764" y="6424"/>
                </a:cubicBezTo>
                <a:cubicBezTo>
                  <a:pt x="7839" y="6441"/>
                  <a:pt x="7910" y="6438"/>
                  <a:pt x="7987" y="6449"/>
                </a:cubicBezTo>
                <a:cubicBezTo>
                  <a:pt x="8080" y="6462"/>
                  <a:pt x="8164" y="6472"/>
                  <a:pt x="8260" y="6474"/>
                </a:cubicBezTo>
                <a:cubicBezTo>
                  <a:pt x="8372" y="6476"/>
                  <a:pt x="8475" y="6459"/>
                  <a:pt x="8582" y="6449"/>
                </a:cubicBezTo>
                <a:cubicBezTo>
                  <a:pt x="8689" y="6439"/>
                  <a:pt x="8799" y="6430"/>
                  <a:pt x="8905" y="6424"/>
                </a:cubicBezTo>
                <a:cubicBezTo>
                  <a:pt x="9266" y="6404"/>
                  <a:pt x="9635" y="6424"/>
                  <a:pt x="9996" y="6424"/>
                </a:cubicBezTo>
                <a:cubicBezTo>
                  <a:pt x="9975" y="6527"/>
                  <a:pt x="9973" y="6615"/>
                  <a:pt x="9971" y="6722"/>
                </a:cubicBezTo>
                <a:cubicBezTo>
                  <a:pt x="9966" y="6939"/>
                  <a:pt x="9961" y="7155"/>
                  <a:pt x="9947" y="7367"/>
                </a:cubicBezTo>
                <a:cubicBezTo>
                  <a:pt x="9927" y="7680"/>
                  <a:pt x="9950" y="8002"/>
                  <a:pt x="9971" y="8310"/>
                </a:cubicBezTo>
                <a:cubicBezTo>
                  <a:pt x="9977" y="8398"/>
                  <a:pt x="9989" y="8474"/>
                  <a:pt x="9996" y="8558"/>
                </a:cubicBezTo>
                <a:cubicBezTo>
                  <a:pt x="10001" y="8625"/>
                  <a:pt x="10024" y="8806"/>
                  <a:pt x="9971" y="8855"/>
                </a:cubicBezTo>
                <a:cubicBezTo>
                  <a:pt x="9936" y="8887"/>
                  <a:pt x="9891" y="8874"/>
                  <a:pt x="9823" y="8880"/>
                </a:cubicBezTo>
                <a:cubicBezTo>
                  <a:pt x="9364" y="8919"/>
                  <a:pt x="8885" y="8832"/>
                  <a:pt x="8434" y="8855"/>
                </a:cubicBezTo>
                <a:cubicBezTo>
                  <a:pt x="8287" y="8863"/>
                  <a:pt x="8137" y="8902"/>
                  <a:pt x="7987" y="8880"/>
                </a:cubicBezTo>
                <a:cubicBezTo>
                  <a:pt x="7869" y="8863"/>
                  <a:pt x="7762" y="8855"/>
                  <a:pt x="7640" y="8855"/>
                </a:cubicBezTo>
                <a:cubicBezTo>
                  <a:pt x="7541" y="8855"/>
                  <a:pt x="7441" y="8855"/>
                  <a:pt x="7342" y="8855"/>
                </a:cubicBezTo>
              </a:path>
              <a:path w="2828" h="2928">
                <a:moveTo>
                  <a:pt x="8533" y="6524"/>
                </a:moveTo>
                <a:cubicBezTo>
                  <a:pt x="8533" y="6660"/>
                  <a:pt x="8517" y="6788"/>
                  <a:pt x="8508" y="6921"/>
                </a:cubicBezTo>
                <a:cubicBezTo>
                  <a:pt x="8499" y="7062"/>
                  <a:pt x="8496" y="7204"/>
                  <a:pt x="8483" y="7342"/>
                </a:cubicBezTo>
                <a:cubicBezTo>
                  <a:pt x="8473" y="7452"/>
                  <a:pt x="8484" y="7560"/>
                  <a:pt x="8458" y="7665"/>
                </a:cubicBezTo>
                <a:cubicBezTo>
                  <a:pt x="8438" y="7745"/>
                  <a:pt x="8413" y="7830"/>
                  <a:pt x="8409" y="7913"/>
                </a:cubicBezTo>
                <a:cubicBezTo>
                  <a:pt x="8404" y="8016"/>
                  <a:pt x="8394" y="8109"/>
                  <a:pt x="8384" y="8210"/>
                </a:cubicBezTo>
                <a:cubicBezTo>
                  <a:pt x="8376" y="8288"/>
                  <a:pt x="8371" y="8360"/>
                  <a:pt x="8359" y="8434"/>
                </a:cubicBezTo>
                <a:cubicBezTo>
                  <a:pt x="8346" y="8514"/>
                  <a:pt x="8366" y="8579"/>
                  <a:pt x="8359" y="8657"/>
                </a:cubicBezTo>
                <a:cubicBezTo>
                  <a:pt x="8351" y="8738"/>
                  <a:pt x="8359" y="8824"/>
                  <a:pt x="8359" y="8905"/>
                </a:cubicBezTo>
              </a:path>
              <a:path w="2828" h="2928">
                <a:moveTo>
                  <a:pt x="7888" y="6648"/>
                </a:moveTo>
                <a:cubicBezTo>
                  <a:pt x="7848" y="6741"/>
                  <a:pt x="7838" y="6736"/>
                  <a:pt x="7838" y="6821"/>
                </a:cubicBezTo>
              </a:path>
              <a:path w="2828" h="2928">
                <a:moveTo>
                  <a:pt x="8037" y="6623"/>
                </a:moveTo>
                <a:cubicBezTo>
                  <a:pt x="8042" y="6685"/>
                  <a:pt x="8052" y="6736"/>
                  <a:pt x="8062" y="6796"/>
                </a:cubicBezTo>
                <a:cubicBezTo>
                  <a:pt x="8052" y="6761"/>
                  <a:pt x="8012" y="6552"/>
                  <a:pt x="8111" y="6697"/>
                </a:cubicBezTo>
                <a:cubicBezTo>
                  <a:pt x="8150" y="6774"/>
                  <a:pt x="8149" y="6789"/>
                  <a:pt x="8186" y="6821"/>
                </a:cubicBezTo>
                <a:cubicBezTo>
                  <a:pt x="8221" y="6732"/>
                  <a:pt x="8229" y="6669"/>
                  <a:pt x="8235" y="6573"/>
                </a:cubicBezTo>
              </a:path>
              <a:path w="2828" h="2928">
                <a:moveTo>
                  <a:pt x="8731" y="6648"/>
                </a:moveTo>
                <a:cubicBezTo>
                  <a:pt x="8731" y="6722"/>
                  <a:pt x="8731" y="6747"/>
                  <a:pt x="8731" y="6796"/>
                </a:cubicBezTo>
                <a:cubicBezTo>
                  <a:pt x="8795" y="6810"/>
                  <a:pt x="8917" y="6808"/>
                  <a:pt x="8855" y="6697"/>
                </a:cubicBezTo>
                <a:cubicBezTo>
                  <a:pt x="8839" y="6681"/>
                  <a:pt x="8822" y="6664"/>
                  <a:pt x="8806" y="6648"/>
                </a:cubicBezTo>
              </a:path>
              <a:path w="2828" h="2928">
                <a:moveTo>
                  <a:pt x="8930" y="6623"/>
                </a:moveTo>
                <a:cubicBezTo>
                  <a:pt x="8935" y="6696"/>
                  <a:pt x="8918" y="6931"/>
                  <a:pt x="9054" y="6772"/>
                </a:cubicBezTo>
                <a:cubicBezTo>
                  <a:pt x="9135" y="6677"/>
                  <a:pt x="9045" y="6646"/>
                  <a:pt x="9079" y="6796"/>
                </a:cubicBezTo>
              </a:path>
              <a:path w="2828" h="2928">
                <a:moveTo>
                  <a:pt x="9302" y="6573"/>
                </a:moveTo>
                <a:cubicBezTo>
                  <a:pt x="9309" y="6666"/>
                  <a:pt x="9321" y="6753"/>
                  <a:pt x="9327" y="6846"/>
                </a:cubicBezTo>
              </a:path>
              <a:path w="2828" h="2928">
                <a:moveTo>
                  <a:pt x="9252" y="6672"/>
                </a:moveTo>
                <a:cubicBezTo>
                  <a:pt x="9277" y="6672"/>
                  <a:pt x="9302" y="6672"/>
                  <a:pt x="9327" y="6672"/>
                </a:cubicBezTo>
              </a:path>
              <a:path w="2828" h="2928">
                <a:moveTo>
                  <a:pt x="7541" y="7045"/>
                </a:moveTo>
                <a:cubicBezTo>
                  <a:pt x="7771" y="7012"/>
                  <a:pt x="8002" y="6998"/>
                  <a:pt x="8235" y="6995"/>
                </a:cubicBezTo>
                <a:cubicBezTo>
                  <a:pt x="8578" y="6990"/>
                  <a:pt x="8944" y="7026"/>
                  <a:pt x="9277" y="6970"/>
                </a:cubicBezTo>
                <a:cubicBezTo>
                  <a:pt x="9332" y="6961"/>
                  <a:pt x="9397" y="6953"/>
                  <a:pt x="9451" y="6945"/>
                </a:cubicBezTo>
                <a:cubicBezTo>
                  <a:pt x="9516" y="6936"/>
                  <a:pt x="9565" y="6940"/>
                  <a:pt x="9624" y="6921"/>
                </a:cubicBezTo>
                <a:cubicBezTo>
                  <a:pt x="9688" y="6901"/>
                  <a:pt x="9729" y="6896"/>
                  <a:pt x="9798" y="6896"/>
                </a:cubicBezTo>
                <a:cubicBezTo>
                  <a:pt x="9839" y="6896"/>
                  <a:pt x="9881" y="6896"/>
                  <a:pt x="9922" y="6896"/>
                </a:cubicBezTo>
              </a:path>
              <a:path w="2828" h="2928">
                <a:moveTo>
                  <a:pt x="7714" y="7169"/>
                </a:moveTo>
                <a:cubicBezTo>
                  <a:pt x="7667" y="7257"/>
                  <a:pt x="7640" y="7316"/>
                  <a:pt x="7640" y="7417"/>
                </a:cubicBezTo>
              </a:path>
              <a:path w="2828" h="2928">
                <a:moveTo>
                  <a:pt x="7938" y="7193"/>
                </a:moveTo>
                <a:cubicBezTo>
                  <a:pt x="7837" y="7260"/>
                  <a:pt x="7823" y="7323"/>
                  <a:pt x="7813" y="7441"/>
                </a:cubicBezTo>
                <a:cubicBezTo>
                  <a:pt x="7888" y="7448"/>
                  <a:pt x="8094" y="7441"/>
                  <a:pt x="8086" y="7317"/>
                </a:cubicBezTo>
                <a:cubicBezTo>
                  <a:pt x="8049" y="7280"/>
                  <a:pt x="8025" y="7261"/>
                  <a:pt x="7987" y="7243"/>
                </a:cubicBezTo>
              </a:path>
              <a:path w="2828" h="2928">
                <a:moveTo>
                  <a:pt x="7392" y="7640"/>
                </a:moveTo>
                <a:cubicBezTo>
                  <a:pt x="7513" y="7640"/>
                  <a:pt x="7621" y="7656"/>
                  <a:pt x="7739" y="7665"/>
                </a:cubicBezTo>
                <a:cubicBezTo>
                  <a:pt x="7914" y="7678"/>
                  <a:pt x="8091" y="7665"/>
                  <a:pt x="8260" y="7689"/>
                </a:cubicBezTo>
                <a:cubicBezTo>
                  <a:pt x="8533" y="7728"/>
                  <a:pt x="8828" y="7687"/>
                  <a:pt x="9103" y="7714"/>
                </a:cubicBezTo>
                <a:cubicBezTo>
                  <a:pt x="9243" y="7728"/>
                  <a:pt x="9385" y="7755"/>
                  <a:pt x="9525" y="7764"/>
                </a:cubicBezTo>
                <a:cubicBezTo>
                  <a:pt x="9669" y="7773"/>
                  <a:pt x="9806" y="7777"/>
                  <a:pt x="9947" y="7789"/>
                </a:cubicBezTo>
              </a:path>
              <a:path w="2828" h="2928">
                <a:moveTo>
                  <a:pt x="7689" y="7863"/>
                </a:moveTo>
                <a:cubicBezTo>
                  <a:pt x="7699" y="7813"/>
                  <a:pt x="7731" y="7716"/>
                  <a:pt x="7813" y="7764"/>
                </a:cubicBezTo>
                <a:cubicBezTo>
                  <a:pt x="7921" y="7828"/>
                  <a:pt x="7745" y="7966"/>
                  <a:pt x="7714" y="7987"/>
                </a:cubicBezTo>
                <a:cubicBezTo>
                  <a:pt x="7538" y="8105"/>
                  <a:pt x="7686" y="8051"/>
                  <a:pt x="7789" y="8037"/>
                </a:cubicBezTo>
              </a:path>
              <a:path w="2828" h="2928">
                <a:moveTo>
                  <a:pt x="8136" y="7863"/>
                </a:moveTo>
                <a:cubicBezTo>
                  <a:pt x="8059" y="7882"/>
                  <a:pt x="8029" y="7902"/>
                  <a:pt x="8012" y="7987"/>
                </a:cubicBezTo>
                <a:cubicBezTo>
                  <a:pt x="8106" y="7971"/>
                  <a:pt x="8250" y="7931"/>
                  <a:pt x="8161" y="7863"/>
                </a:cubicBezTo>
              </a:path>
              <a:path w="2828" h="2928">
                <a:moveTo>
                  <a:pt x="7293" y="8285"/>
                </a:moveTo>
                <a:cubicBezTo>
                  <a:pt x="7436" y="8240"/>
                  <a:pt x="7564" y="8214"/>
                  <a:pt x="7714" y="8210"/>
                </a:cubicBezTo>
                <a:cubicBezTo>
                  <a:pt x="7973" y="8203"/>
                  <a:pt x="8228" y="8220"/>
                  <a:pt x="8483" y="8235"/>
                </a:cubicBezTo>
                <a:cubicBezTo>
                  <a:pt x="8627" y="8244"/>
                  <a:pt x="8765" y="8272"/>
                  <a:pt x="8905" y="8285"/>
                </a:cubicBezTo>
                <a:cubicBezTo>
                  <a:pt x="9103" y="8303"/>
                  <a:pt x="9303" y="8327"/>
                  <a:pt x="9500" y="8359"/>
                </a:cubicBezTo>
                <a:cubicBezTo>
                  <a:pt x="9659" y="8385"/>
                  <a:pt x="9810" y="8384"/>
                  <a:pt x="9971" y="8384"/>
                </a:cubicBezTo>
                <a:cubicBezTo>
                  <a:pt x="10062" y="8384"/>
                  <a:pt x="10070" y="8384"/>
                  <a:pt x="10120" y="8384"/>
                </a:cubicBezTo>
              </a:path>
              <a:path w="2828" h="2928">
                <a:moveTo>
                  <a:pt x="7466" y="8483"/>
                </a:moveTo>
                <a:cubicBezTo>
                  <a:pt x="7530" y="8489"/>
                  <a:pt x="7701" y="8511"/>
                  <a:pt x="7640" y="8632"/>
                </a:cubicBezTo>
                <a:cubicBezTo>
                  <a:pt x="7613" y="8685"/>
                  <a:pt x="7579" y="8612"/>
                  <a:pt x="7689" y="8682"/>
                </a:cubicBezTo>
                <a:cubicBezTo>
                  <a:pt x="7657" y="8720"/>
                  <a:pt x="7509" y="8838"/>
                  <a:pt x="7441" y="8781"/>
                </a:cubicBezTo>
                <a:cubicBezTo>
                  <a:pt x="7433" y="8756"/>
                  <a:pt x="7425" y="8731"/>
                  <a:pt x="7417" y="8706"/>
                </a:cubicBezTo>
              </a:path>
              <a:path w="2828" h="2928">
                <a:moveTo>
                  <a:pt x="8012" y="8483"/>
                </a:moveTo>
                <a:cubicBezTo>
                  <a:pt x="7983" y="8527"/>
                  <a:pt x="7855" y="8668"/>
                  <a:pt x="7913" y="8731"/>
                </a:cubicBezTo>
                <a:cubicBezTo>
                  <a:pt x="7995" y="8820"/>
                  <a:pt x="8105" y="8793"/>
                  <a:pt x="8161" y="8706"/>
                </a:cubicBezTo>
                <a:cubicBezTo>
                  <a:pt x="8195" y="8653"/>
                  <a:pt x="8239" y="8574"/>
                  <a:pt x="8161" y="8533"/>
                </a:cubicBezTo>
                <a:cubicBezTo>
                  <a:pt x="8136" y="8525"/>
                  <a:pt x="8111" y="8516"/>
                  <a:pt x="8086" y="8508"/>
                </a:cubicBezTo>
              </a:path>
              <a:path w="2828" h="2928">
                <a:moveTo>
                  <a:pt x="7764" y="6226"/>
                </a:moveTo>
                <a:cubicBezTo>
                  <a:pt x="7787" y="6146"/>
                  <a:pt x="7813" y="6084"/>
                  <a:pt x="7813" y="6003"/>
                </a:cubicBezTo>
                <a:cubicBezTo>
                  <a:pt x="7919" y="6115"/>
                  <a:pt x="7999" y="6226"/>
                  <a:pt x="8086" y="6350"/>
                </a:cubicBezTo>
              </a:path>
              <a:path w="2828" h="2928">
                <a:moveTo>
                  <a:pt x="8136" y="6052"/>
                </a:moveTo>
                <a:cubicBezTo>
                  <a:pt x="8015" y="6149"/>
                  <a:pt x="7936" y="6278"/>
                  <a:pt x="7838" y="6400"/>
                </a:cubicBezTo>
                <a:cubicBezTo>
                  <a:pt x="7808" y="6429"/>
                  <a:pt x="7797" y="6443"/>
                  <a:pt x="7789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84800" y="2527200"/>
            <a:ext cx="473040" cy="401760"/>
          </a:xfrm>
          <a:custGeom>
            <a:avLst/>
            <a:gdLst/>
            <a:ahLst/>
            <a:rect l="l" t="t" r="r" b="b"/>
            <a:pathLst>
              <a:path w="1316" h="1117">
                <a:moveTo>
                  <a:pt x="12402" y="7045"/>
                </a:moveTo>
                <a:cubicBezTo>
                  <a:pt x="12424" y="7152"/>
                  <a:pt x="12432" y="7176"/>
                  <a:pt x="12427" y="7243"/>
                </a:cubicBezTo>
              </a:path>
              <a:path w="1316" h="1117">
                <a:moveTo>
                  <a:pt x="12179" y="7020"/>
                </a:moveTo>
                <a:cubicBezTo>
                  <a:pt x="12320" y="7020"/>
                  <a:pt x="12460" y="7020"/>
                  <a:pt x="12601" y="7020"/>
                </a:cubicBezTo>
              </a:path>
              <a:path w="1316" h="1117">
                <a:moveTo>
                  <a:pt x="12204" y="7342"/>
                </a:moveTo>
                <a:cubicBezTo>
                  <a:pt x="12371" y="7334"/>
                  <a:pt x="12574" y="7348"/>
                  <a:pt x="12725" y="7268"/>
                </a:cubicBezTo>
                <a:cubicBezTo>
                  <a:pt x="12839" y="7208"/>
                  <a:pt x="12832" y="7150"/>
                  <a:pt x="12849" y="7268"/>
                </a:cubicBezTo>
                <a:cubicBezTo>
                  <a:pt x="12870" y="7076"/>
                  <a:pt x="12947" y="7145"/>
                  <a:pt x="13072" y="7218"/>
                </a:cubicBezTo>
                <a:cubicBezTo>
                  <a:pt x="13136" y="7250"/>
                  <a:pt x="13149" y="7273"/>
                  <a:pt x="13097" y="7342"/>
                </a:cubicBezTo>
              </a:path>
              <a:path w="1316" h="1117">
                <a:moveTo>
                  <a:pt x="12576" y="7888"/>
                </a:moveTo>
                <a:cubicBezTo>
                  <a:pt x="12442" y="7900"/>
                  <a:pt x="12467" y="7934"/>
                  <a:pt x="12402" y="8086"/>
                </a:cubicBezTo>
                <a:cubicBezTo>
                  <a:pt x="12528" y="8155"/>
                  <a:pt x="12739" y="8159"/>
                  <a:pt x="12725" y="7938"/>
                </a:cubicBezTo>
                <a:cubicBezTo>
                  <a:pt x="12675" y="7863"/>
                  <a:pt x="12659" y="7838"/>
                  <a:pt x="12601" y="7813"/>
                </a:cubicBezTo>
              </a:path>
              <a:path w="1316" h="1117">
                <a:moveTo>
                  <a:pt x="12824" y="7739"/>
                </a:moveTo>
                <a:cubicBezTo>
                  <a:pt x="12833" y="7782"/>
                  <a:pt x="12849" y="8085"/>
                  <a:pt x="12948" y="8062"/>
                </a:cubicBezTo>
                <a:cubicBezTo>
                  <a:pt x="13032" y="8005"/>
                  <a:pt x="13063" y="7980"/>
                  <a:pt x="13097" y="7913"/>
                </a:cubicBezTo>
                <a:cubicBezTo>
                  <a:pt x="13187" y="7792"/>
                  <a:pt x="13117" y="7903"/>
                  <a:pt x="13146" y="8012"/>
                </a:cubicBezTo>
              </a:path>
              <a:path w="1316" h="1117">
                <a:moveTo>
                  <a:pt x="13370" y="7739"/>
                </a:moveTo>
                <a:cubicBezTo>
                  <a:pt x="13370" y="7847"/>
                  <a:pt x="13370" y="7954"/>
                  <a:pt x="13370" y="8062"/>
                </a:cubicBezTo>
              </a:path>
              <a:path w="1316" h="1117">
                <a:moveTo>
                  <a:pt x="13271" y="7863"/>
                </a:moveTo>
                <a:cubicBezTo>
                  <a:pt x="13370" y="7863"/>
                  <a:pt x="13420" y="7863"/>
                  <a:pt x="13494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43120" y="2027160"/>
            <a:ext cx="731880" cy="231840"/>
          </a:xfrm>
          <a:custGeom>
            <a:avLst/>
            <a:gdLst/>
            <a:ahLst/>
            <a:rect l="l" t="t" r="r" b="b"/>
            <a:pathLst>
              <a:path w="2035" h="646">
                <a:moveTo>
                  <a:pt x="7367" y="5730"/>
                </a:moveTo>
                <a:cubicBezTo>
                  <a:pt x="7383" y="5830"/>
                  <a:pt x="7402" y="5872"/>
                  <a:pt x="7466" y="5953"/>
                </a:cubicBezTo>
              </a:path>
              <a:path w="2035" h="646">
                <a:moveTo>
                  <a:pt x="7689" y="5655"/>
                </a:moveTo>
                <a:cubicBezTo>
                  <a:pt x="7564" y="5839"/>
                  <a:pt x="7461" y="6025"/>
                  <a:pt x="7367" y="6226"/>
                </a:cubicBezTo>
                <a:cubicBezTo>
                  <a:pt x="7359" y="6243"/>
                  <a:pt x="7350" y="6259"/>
                  <a:pt x="7342" y="6276"/>
                </a:cubicBezTo>
              </a:path>
              <a:path w="2035" h="646">
                <a:moveTo>
                  <a:pt x="7813" y="5854"/>
                </a:moveTo>
                <a:cubicBezTo>
                  <a:pt x="7897" y="5854"/>
                  <a:pt x="7960" y="5864"/>
                  <a:pt x="8037" y="5879"/>
                </a:cubicBezTo>
              </a:path>
              <a:path w="2035" h="646">
                <a:moveTo>
                  <a:pt x="7764" y="6003"/>
                </a:moveTo>
                <a:cubicBezTo>
                  <a:pt x="7855" y="6018"/>
                  <a:pt x="7922" y="6028"/>
                  <a:pt x="8012" y="6028"/>
                </a:cubicBezTo>
              </a:path>
              <a:path w="2035" h="646">
                <a:moveTo>
                  <a:pt x="8285" y="5804"/>
                </a:moveTo>
                <a:cubicBezTo>
                  <a:pt x="8369" y="5861"/>
                  <a:pt x="8436" y="5931"/>
                  <a:pt x="8508" y="6003"/>
                </a:cubicBezTo>
              </a:path>
              <a:path w="2035" h="646">
                <a:moveTo>
                  <a:pt x="8607" y="5755"/>
                </a:moveTo>
                <a:cubicBezTo>
                  <a:pt x="8542" y="5832"/>
                  <a:pt x="8417" y="5959"/>
                  <a:pt x="8384" y="6052"/>
                </a:cubicBezTo>
                <a:cubicBezTo>
                  <a:pt x="8384" y="6069"/>
                  <a:pt x="8384" y="6085"/>
                  <a:pt x="8384" y="6102"/>
                </a:cubicBezTo>
              </a:path>
              <a:path w="2035" h="646">
                <a:moveTo>
                  <a:pt x="8706" y="5953"/>
                </a:moveTo>
                <a:cubicBezTo>
                  <a:pt x="8788" y="5974"/>
                  <a:pt x="8845" y="5978"/>
                  <a:pt x="8930" y="5978"/>
                </a:cubicBezTo>
              </a:path>
              <a:path w="2035" h="646">
                <a:moveTo>
                  <a:pt x="9029" y="5804"/>
                </a:moveTo>
                <a:cubicBezTo>
                  <a:pt x="9046" y="5804"/>
                  <a:pt x="9062" y="5804"/>
                  <a:pt x="9079" y="5804"/>
                </a:cubicBezTo>
                <a:cubicBezTo>
                  <a:pt x="9090" y="5894"/>
                  <a:pt x="9103" y="5933"/>
                  <a:pt x="9203" y="5953"/>
                </a:cubicBezTo>
                <a:cubicBezTo>
                  <a:pt x="9252" y="5963"/>
                  <a:pt x="9303" y="5934"/>
                  <a:pt x="9351" y="5928"/>
                </a:cubicBezTo>
              </a:path>
              <a:path w="2035" h="646">
                <a:moveTo>
                  <a:pt x="9376" y="5631"/>
                </a:moveTo>
                <a:cubicBezTo>
                  <a:pt x="9357" y="5747"/>
                  <a:pt x="9341" y="5918"/>
                  <a:pt x="9302" y="6028"/>
                </a:cubicBezTo>
                <a:cubicBezTo>
                  <a:pt x="9294" y="6036"/>
                  <a:pt x="9285" y="6044"/>
                  <a:pt x="9277" y="6052"/>
                </a:cubicBezTo>
              </a:path>
              <a:path w="2035" h="646">
                <a:moveTo>
                  <a:pt x="8657" y="5928"/>
                </a:moveTo>
                <a:cubicBezTo>
                  <a:pt x="8640" y="5928"/>
                  <a:pt x="8624" y="5928"/>
                  <a:pt x="8607" y="5928"/>
                </a:cubicBezTo>
              </a:path>
              <a:path w="2035" h="646">
                <a:moveTo>
                  <a:pt x="8533" y="5904"/>
                </a:moveTo>
                <a:cubicBezTo>
                  <a:pt x="8542" y="5992"/>
                  <a:pt x="8552" y="6058"/>
                  <a:pt x="8607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0200" y="5803920"/>
            <a:ext cx="669960" cy="46080"/>
          </a:xfrm>
          <a:custGeom>
            <a:avLst/>
            <a:gdLst/>
            <a:ahLst/>
            <a:rect l="l" t="t" r="r" b="b"/>
            <a:pathLst>
              <a:path w="1861" h="125">
                <a:moveTo>
                  <a:pt x="4118" y="16247"/>
                </a:moveTo>
                <a:lnTo>
                  <a:pt x="4118" y="16247"/>
                </a:lnTo>
              </a:path>
              <a:path w="1861" h="125">
                <a:moveTo>
                  <a:pt x="4043" y="16148"/>
                </a:moveTo>
                <a:cubicBezTo>
                  <a:pt x="4066" y="16140"/>
                  <a:pt x="4128" y="16110"/>
                  <a:pt x="4192" y="16123"/>
                </a:cubicBezTo>
                <a:cubicBezTo>
                  <a:pt x="4256" y="16136"/>
                  <a:pt x="4323" y="16164"/>
                  <a:pt x="4390" y="16173"/>
                </a:cubicBezTo>
                <a:cubicBezTo>
                  <a:pt x="4482" y="16186"/>
                  <a:pt x="4575" y="16183"/>
                  <a:pt x="4663" y="16197"/>
                </a:cubicBezTo>
                <a:cubicBezTo>
                  <a:pt x="4922" y="16239"/>
                  <a:pt x="5220" y="16197"/>
                  <a:pt x="5482" y="16197"/>
                </a:cubicBezTo>
                <a:cubicBezTo>
                  <a:pt x="5623" y="16197"/>
                  <a:pt x="5490" y="16197"/>
                  <a:pt x="5432" y="16197"/>
                </a:cubicBezTo>
                <a:cubicBezTo>
                  <a:pt x="5297" y="16197"/>
                  <a:pt x="5169" y="16177"/>
                  <a:pt x="5035" y="16173"/>
                </a:cubicBezTo>
                <a:cubicBezTo>
                  <a:pt x="4946" y="16170"/>
                  <a:pt x="4879" y="16148"/>
                  <a:pt x="4787" y="16148"/>
                </a:cubicBezTo>
                <a:cubicBezTo>
                  <a:pt x="4683" y="16148"/>
                  <a:pt x="4586" y="16135"/>
                  <a:pt x="4490" y="16123"/>
                </a:cubicBezTo>
                <a:cubicBezTo>
                  <a:pt x="4385" y="16110"/>
                  <a:pt x="4291" y="16137"/>
                  <a:pt x="4192" y="16148"/>
                </a:cubicBezTo>
                <a:cubicBezTo>
                  <a:pt x="4121" y="16156"/>
                  <a:pt x="4061" y="16163"/>
                  <a:pt x="3994" y="16173"/>
                </a:cubicBezTo>
                <a:cubicBezTo>
                  <a:pt x="3919" y="16184"/>
                  <a:pt x="3842" y="16186"/>
                  <a:pt x="3770" y="16197"/>
                </a:cubicBezTo>
                <a:cubicBezTo>
                  <a:pt x="3598" y="16223"/>
                  <a:pt x="3815" y="16199"/>
                  <a:pt x="3870" y="16197"/>
                </a:cubicBezTo>
                <a:cubicBezTo>
                  <a:pt x="4029" y="16192"/>
                  <a:pt x="4183" y="16176"/>
                  <a:pt x="4341" y="16173"/>
                </a:cubicBezTo>
                <a:cubicBezTo>
                  <a:pt x="4493" y="16170"/>
                  <a:pt x="4639" y="16163"/>
                  <a:pt x="4787" y="16148"/>
                </a:cubicBezTo>
                <a:cubicBezTo>
                  <a:pt x="4920" y="16134"/>
                  <a:pt x="5060" y="16144"/>
                  <a:pt x="5184" y="16173"/>
                </a:cubicBezTo>
                <a:cubicBezTo>
                  <a:pt x="5192" y="16173"/>
                  <a:pt x="5201" y="16173"/>
                  <a:pt x="5209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4200" y="2170080"/>
            <a:ext cx="1214640" cy="2946600"/>
          </a:xfrm>
          <a:custGeom>
            <a:avLst/>
            <a:gdLst/>
            <a:ahLst/>
            <a:rect l="l" t="t" r="r" b="b"/>
            <a:pathLst>
              <a:path w="3375" h="8186">
                <a:moveTo>
                  <a:pt x="8756" y="10988"/>
                </a:moveTo>
                <a:lnTo>
                  <a:pt x="8756" y="10988"/>
                </a:lnTo>
              </a:path>
              <a:path w="3375" h="8186">
                <a:moveTo>
                  <a:pt x="9128" y="6102"/>
                </a:moveTo>
                <a:cubicBezTo>
                  <a:pt x="9168" y="6162"/>
                  <a:pt x="9207" y="6221"/>
                  <a:pt x="9252" y="6276"/>
                </a:cubicBezTo>
              </a:path>
              <a:path w="3375" h="8186">
                <a:moveTo>
                  <a:pt x="9327" y="6028"/>
                </a:moveTo>
                <a:cubicBezTo>
                  <a:pt x="9292" y="6191"/>
                  <a:pt x="9253" y="6360"/>
                  <a:pt x="9227" y="6524"/>
                </a:cubicBezTo>
                <a:cubicBezTo>
                  <a:pt x="9227" y="6540"/>
                  <a:pt x="9227" y="6557"/>
                  <a:pt x="9227" y="6573"/>
                </a:cubicBezTo>
              </a:path>
              <a:path w="3375" h="8186">
                <a:moveTo>
                  <a:pt x="9079" y="7144"/>
                </a:moveTo>
                <a:cubicBezTo>
                  <a:pt x="9079" y="7235"/>
                  <a:pt x="9059" y="7303"/>
                  <a:pt x="9054" y="7392"/>
                </a:cubicBezTo>
                <a:cubicBezTo>
                  <a:pt x="9047" y="7515"/>
                  <a:pt x="9060" y="7503"/>
                  <a:pt x="9178" y="7541"/>
                </a:cubicBezTo>
                <a:cubicBezTo>
                  <a:pt x="9257" y="7566"/>
                  <a:pt x="9353" y="7541"/>
                  <a:pt x="9426" y="7491"/>
                </a:cubicBezTo>
                <a:cubicBezTo>
                  <a:pt x="9487" y="7450"/>
                  <a:pt x="9516" y="7380"/>
                  <a:pt x="9525" y="7317"/>
                </a:cubicBezTo>
                <a:cubicBezTo>
                  <a:pt x="9470" y="7285"/>
                  <a:pt x="9413" y="7260"/>
                  <a:pt x="9351" y="7293"/>
                </a:cubicBezTo>
                <a:cubicBezTo>
                  <a:pt x="9289" y="7326"/>
                  <a:pt x="9302" y="7410"/>
                  <a:pt x="9302" y="7466"/>
                </a:cubicBezTo>
                <a:cubicBezTo>
                  <a:pt x="9302" y="7501"/>
                  <a:pt x="9307" y="7519"/>
                  <a:pt x="9327" y="7541"/>
                </a:cubicBezTo>
              </a:path>
              <a:path w="3375" h="8186">
                <a:moveTo>
                  <a:pt x="8806" y="7838"/>
                </a:moveTo>
                <a:cubicBezTo>
                  <a:pt x="8886" y="7783"/>
                  <a:pt x="8868" y="8012"/>
                  <a:pt x="8880" y="8062"/>
                </a:cubicBezTo>
                <a:cubicBezTo>
                  <a:pt x="8900" y="8102"/>
                  <a:pt x="8909" y="8108"/>
                  <a:pt x="8905" y="8136"/>
                </a:cubicBezTo>
              </a:path>
              <a:path w="3375" h="8186">
                <a:moveTo>
                  <a:pt x="9128" y="7813"/>
                </a:moveTo>
                <a:cubicBezTo>
                  <a:pt x="9136" y="7912"/>
                  <a:pt x="9144" y="8017"/>
                  <a:pt x="9178" y="8111"/>
                </a:cubicBezTo>
                <a:cubicBezTo>
                  <a:pt x="9227" y="8246"/>
                  <a:pt x="9315" y="8210"/>
                  <a:pt x="9401" y="8161"/>
                </a:cubicBezTo>
                <a:cubicBezTo>
                  <a:pt x="9465" y="8124"/>
                  <a:pt x="9486" y="8084"/>
                  <a:pt x="9500" y="8012"/>
                </a:cubicBezTo>
                <a:cubicBezTo>
                  <a:pt x="9351" y="7985"/>
                  <a:pt x="9355" y="8048"/>
                  <a:pt x="9302" y="8186"/>
                </a:cubicBezTo>
              </a:path>
              <a:path w="3375" h="8186">
                <a:moveTo>
                  <a:pt x="8830" y="8582"/>
                </a:moveTo>
                <a:cubicBezTo>
                  <a:pt x="8830" y="8531"/>
                  <a:pt x="8831" y="8512"/>
                  <a:pt x="8855" y="8483"/>
                </a:cubicBezTo>
                <a:cubicBezTo>
                  <a:pt x="8928" y="8642"/>
                  <a:pt x="8891" y="8680"/>
                  <a:pt x="8806" y="8830"/>
                </a:cubicBezTo>
                <a:cubicBezTo>
                  <a:pt x="8798" y="8847"/>
                  <a:pt x="8789" y="8863"/>
                  <a:pt x="8781" y="8880"/>
                </a:cubicBezTo>
                <a:cubicBezTo>
                  <a:pt x="8863" y="8789"/>
                  <a:pt x="8908" y="8754"/>
                  <a:pt x="9029" y="8781"/>
                </a:cubicBezTo>
              </a:path>
              <a:path w="3375" h="8186">
                <a:moveTo>
                  <a:pt x="9153" y="8434"/>
                </a:moveTo>
                <a:cubicBezTo>
                  <a:pt x="9153" y="8511"/>
                  <a:pt x="9174" y="8580"/>
                  <a:pt x="9178" y="8657"/>
                </a:cubicBezTo>
                <a:cubicBezTo>
                  <a:pt x="9183" y="8750"/>
                  <a:pt x="9258" y="8795"/>
                  <a:pt x="9351" y="8781"/>
                </a:cubicBezTo>
                <a:cubicBezTo>
                  <a:pt x="9432" y="8768"/>
                  <a:pt x="9512" y="8697"/>
                  <a:pt x="9550" y="8632"/>
                </a:cubicBezTo>
                <a:cubicBezTo>
                  <a:pt x="9570" y="8592"/>
                  <a:pt x="9579" y="8585"/>
                  <a:pt x="9575" y="8558"/>
                </a:cubicBezTo>
                <a:cubicBezTo>
                  <a:pt x="9464" y="8516"/>
                  <a:pt x="9431" y="8561"/>
                  <a:pt x="9401" y="8682"/>
                </a:cubicBezTo>
                <a:cubicBezTo>
                  <a:pt x="9401" y="8733"/>
                  <a:pt x="9402" y="8752"/>
                  <a:pt x="9426" y="8781"/>
                </a:cubicBezTo>
              </a:path>
              <a:path w="3375" h="8186">
                <a:moveTo>
                  <a:pt x="10468" y="8012"/>
                </a:moveTo>
                <a:lnTo>
                  <a:pt x="10468" y="8012"/>
                </a:lnTo>
              </a:path>
              <a:path w="3375" h="8186">
                <a:moveTo>
                  <a:pt x="7094" y="9723"/>
                </a:moveTo>
                <a:cubicBezTo>
                  <a:pt x="7094" y="9665"/>
                  <a:pt x="7094" y="9657"/>
                  <a:pt x="7094" y="9624"/>
                </a:cubicBezTo>
                <a:cubicBezTo>
                  <a:pt x="7104" y="9986"/>
                  <a:pt x="7096" y="10355"/>
                  <a:pt x="7119" y="10716"/>
                </a:cubicBezTo>
                <a:cubicBezTo>
                  <a:pt x="7131" y="10902"/>
                  <a:pt x="7169" y="11074"/>
                  <a:pt x="7169" y="11261"/>
                </a:cubicBezTo>
                <a:cubicBezTo>
                  <a:pt x="7169" y="11398"/>
                  <a:pt x="7177" y="11523"/>
                  <a:pt x="7193" y="11658"/>
                </a:cubicBezTo>
                <a:cubicBezTo>
                  <a:pt x="7205" y="11762"/>
                  <a:pt x="7192" y="11854"/>
                  <a:pt x="7218" y="11956"/>
                </a:cubicBezTo>
              </a:path>
              <a:path w="3375" h="8186">
                <a:moveTo>
                  <a:pt x="7119" y="9426"/>
                </a:moveTo>
                <a:cubicBezTo>
                  <a:pt x="7301" y="9458"/>
                  <a:pt x="7479" y="9451"/>
                  <a:pt x="7665" y="9451"/>
                </a:cubicBezTo>
                <a:cubicBezTo>
                  <a:pt x="7873" y="9451"/>
                  <a:pt x="8076" y="9426"/>
                  <a:pt x="8285" y="9426"/>
                </a:cubicBezTo>
                <a:cubicBezTo>
                  <a:pt x="8438" y="9426"/>
                  <a:pt x="8581" y="9389"/>
                  <a:pt x="8731" y="9376"/>
                </a:cubicBezTo>
                <a:cubicBezTo>
                  <a:pt x="8837" y="9367"/>
                  <a:pt x="8947" y="9340"/>
                  <a:pt x="9054" y="9351"/>
                </a:cubicBezTo>
                <a:cubicBezTo>
                  <a:pt x="9122" y="9358"/>
                  <a:pt x="9187" y="9395"/>
                  <a:pt x="9252" y="9401"/>
                </a:cubicBezTo>
                <a:cubicBezTo>
                  <a:pt x="9348" y="9409"/>
                  <a:pt x="9433" y="9382"/>
                  <a:pt x="9525" y="9376"/>
                </a:cubicBezTo>
                <a:cubicBezTo>
                  <a:pt x="9582" y="9372"/>
                  <a:pt x="9641" y="9376"/>
                  <a:pt x="9699" y="9376"/>
                </a:cubicBezTo>
                <a:cubicBezTo>
                  <a:pt x="9705" y="9524"/>
                  <a:pt x="9711" y="9731"/>
                  <a:pt x="9723" y="9897"/>
                </a:cubicBezTo>
                <a:cubicBezTo>
                  <a:pt x="9748" y="10232"/>
                  <a:pt x="9818" y="10552"/>
                  <a:pt x="9823" y="10889"/>
                </a:cubicBezTo>
                <a:cubicBezTo>
                  <a:pt x="9825" y="11061"/>
                  <a:pt x="9934" y="11870"/>
                  <a:pt x="9773" y="11981"/>
                </a:cubicBezTo>
                <a:cubicBezTo>
                  <a:pt x="9644" y="12069"/>
                  <a:pt x="9349" y="11993"/>
                  <a:pt x="9203" y="12005"/>
                </a:cubicBezTo>
                <a:cubicBezTo>
                  <a:pt x="9009" y="12021"/>
                  <a:pt x="8821" y="12085"/>
                  <a:pt x="8632" y="12105"/>
                </a:cubicBezTo>
                <a:cubicBezTo>
                  <a:pt x="8442" y="12125"/>
                  <a:pt x="8254" y="12167"/>
                  <a:pt x="8062" y="12179"/>
                </a:cubicBezTo>
                <a:cubicBezTo>
                  <a:pt x="7953" y="12186"/>
                  <a:pt x="7816" y="12166"/>
                  <a:pt x="7714" y="12129"/>
                </a:cubicBezTo>
                <a:cubicBezTo>
                  <a:pt x="7652" y="12107"/>
                  <a:pt x="7597" y="12075"/>
                  <a:pt x="7541" y="12055"/>
                </a:cubicBezTo>
                <a:cubicBezTo>
                  <a:pt x="7490" y="12037"/>
                  <a:pt x="7454" y="12032"/>
                  <a:pt x="7392" y="12030"/>
                </a:cubicBezTo>
                <a:cubicBezTo>
                  <a:pt x="7375" y="12030"/>
                  <a:pt x="7359" y="12030"/>
                  <a:pt x="7342" y="12030"/>
                </a:cubicBezTo>
              </a:path>
              <a:path w="3375" h="8186">
                <a:moveTo>
                  <a:pt x="8334" y="9451"/>
                </a:moveTo>
                <a:cubicBezTo>
                  <a:pt x="8248" y="9594"/>
                  <a:pt x="8301" y="9726"/>
                  <a:pt x="8310" y="9897"/>
                </a:cubicBezTo>
                <a:cubicBezTo>
                  <a:pt x="8321" y="10107"/>
                  <a:pt x="8345" y="10309"/>
                  <a:pt x="8384" y="10517"/>
                </a:cubicBezTo>
                <a:cubicBezTo>
                  <a:pt x="8416" y="10691"/>
                  <a:pt x="8448" y="10865"/>
                  <a:pt x="8483" y="11038"/>
                </a:cubicBezTo>
                <a:cubicBezTo>
                  <a:pt x="8515" y="11199"/>
                  <a:pt x="8511" y="11350"/>
                  <a:pt x="8533" y="11509"/>
                </a:cubicBezTo>
                <a:cubicBezTo>
                  <a:pt x="8546" y="11603"/>
                  <a:pt x="8539" y="11715"/>
                  <a:pt x="8558" y="11807"/>
                </a:cubicBezTo>
                <a:cubicBezTo>
                  <a:pt x="8575" y="11890"/>
                  <a:pt x="8625" y="12021"/>
                  <a:pt x="8607" y="12105"/>
                </a:cubicBezTo>
                <a:cubicBezTo>
                  <a:pt x="8599" y="12121"/>
                  <a:pt x="8590" y="12138"/>
                  <a:pt x="8582" y="12154"/>
                </a:cubicBezTo>
              </a:path>
              <a:path w="3375" h="8186">
                <a:moveTo>
                  <a:pt x="7094" y="9872"/>
                </a:moveTo>
                <a:cubicBezTo>
                  <a:pt x="7260" y="9872"/>
                  <a:pt x="7426" y="9866"/>
                  <a:pt x="7590" y="9847"/>
                </a:cubicBezTo>
                <a:cubicBezTo>
                  <a:pt x="7774" y="9826"/>
                  <a:pt x="7953" y="9769"/>
                  <a:pt x="8136" y="9748"/>
                </a:cubicBezTo>
                <a:cubicBezTo>
                  <a:pt x="8270" y="9733"/>
                  <a:pt x="8397" y="9699"/>
                  <a:pt x="8533" y="9699"/>
                </a:cubicBezTo>
                <a:cubicBezTo>
                  <a:pt x="8653" y="9699"/>
                  <a:pt x="8762" y="9679"/>
                  <a:pt x="8880" y="9674"/>
                </a:cubicBezTo>
                <a:cubicBezTo>
                  <a:pt x="9045" y="9667"/>
                  <a:pt x="9211" y="9674"/>
                  <a:pt x="9376" y="9674"/>
                </a:cubicBezTo>
              </a:path>
              <a:path w="3375" h="8186">
                <a:moveTo>
                  <a:pt x="8186" y="13047"/>
                </a:moveTo>
                <a:cubicBezTo>
                  <a:pt x="8162" y="12999"/>
                  <a:pt x="8153" y="12985"/>
                  <a:pt x="8161" y="12948"/>
                </a:cubicBezTo>
                <a:cubicBezTo>
                  <a:pt x="8219" y="13283"/>
                  <a:pt x="8285" y="13625"/>
                  <a:pt x="8310" y="13965"/>
                </a:cubicBezTo>
                <a:cubicBezTo>
                  <a:pt x="8316" y="14045"/>
                  <a:pt x="8310" y="14132"/>
                  <a:pt x="8310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48040" y="4616280"/>
            <a:ext cx="27000" cy="125640"/>
          </a:xfrm>
          <a:custGeom>
            <a:avLst/>
            <a:gdLst/>
            <a:ahLst/>
            <a:rect l="l" t="t" r="r" b="b"/>
            <a:pathLst>
              <a:path w="75" h="348">
                <a:moveTo>
                  <a:pt x="10740" y="12824"/>
                </a:moveTo>
                <a:cubicBezTo>
                  <a:pt x="10719" y="12963"/>
                  <a:pt x="10613" y="13164"/>
                  <a:pt x="10765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83040" y="4599000"/>
            <a:ext cx="9828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1187" y="12774"/>
                </a:moveTo>
                <a:cubicBezTo>
                  <a:pt x="11116" y="12885"/>
                  <a:pt x="11081" y="12943"/>
                  <a:pt x="11063" y="13072"/>
                </a:cubicBezTo>
                <a:cubicBezTo>
                  <a:pt x="11189" y="13121"/>
                  <a:pt x="11377" y="13105"/>
                  <a:pt x="11336" y="12898"/>
                </a:cubicBezTo>
                <a:cubicBezTo>
                  <a:pt x="11319" y="12873"/>
                  <a:pt x="11303" y="12849"/>
                  <a:pt x="1128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32160" y="4518000"/>
            <a:ext cx="36720" cy="662040"/>
          </a:xfrm>
          <a:custGeom>
            <a:avLst/>
            <a:gdLst/>
            <a:ahLst/>
            <a:rect l="l" t="t" r="r" b="b"/>
            <a:pathLst>
              <a:path w="101" h="1837">
                <a:moveTo>
                  <a:pt x="11807" y="12601"/>
                </a:moveTo>
                <a:cubicBezTo>
                  <a:pt x="11738" y="12463"/>
                  <a:pt x="11831" y="12817"/>
                  <a:pt x="11832" y="12824"/>
                </a:cubicBezTo>
                <a:cubicBezTo>
                  <a:pt x="11877" y="13260"/>
                  <a:pt x="11830" y="13705"/>
                  <a:pt x="11782" y="14139"/>
                </a:cubicBezTo>
                <a:cubicBezTo>
                  <a:pt x="11762" y="14279"/>
                  <a:pt x="11753" y="14303"/>
                  <a:pt x="11757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27720" y="4643280"/>
            <a:ext cx="303120" cy="135000"/>
          </a:xfrm>
          <a:custGeom>
            <a:avLst/>
            <a:gdLst/>
            <a:ahLst/>
            <a:rect l="l" t="t" r="r" b="b"/>
            <a:pathLst>
              <a:path w="844" h="374">
                <a:moveTo>
                  <a:pt x="12601" y="12898"/>
                </a:moveTo>
                <a:cubicBezTo>
                  <a:pt x="12704" y="12898"/>
                  <a:pt x="12719" y="12894"/>
                  <a:pt x="12799" y="12948"/>
                </a:cubicBezTo>
                <a:cubicBezTo>
                  <a:pt x="12760" y="13083"/>
                  <a:pt x="12698" y="13164"/>
                  <a:pt x="12576" y="13246"/>
                </a:cubicBezTo>
                <a:cubicBezTo>
                  <a:pt x="12717" y="13285"/>
                  <a:pt x="12789" y="13258"/>
                  <a:pt x="12923" y="13196"/>
                </a:cubicBezTo>
              </a:path>
              <a:path w="844" h="374">
                <a:moveTo>
                  <a:pt x="13221" y="12948"/>
                </a:moveTo>
                <a:cubicBezTo>
                  <a:pt x="13088" y="13051"/>
                  <a:pt x="13065" y="13099"/>
                  <a:pt x="13122" y="13246"/>
                </a:cubicBezTo>
                <a:cubicBezTo>
                  <a:pt x="13321" y="13196"/>
                  <a:pt x="13450" y="13194"/>
                  <a:pt x="13345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4527720"/>
            <a:ext cx="17640" cy="758520"/>
          </a:xfrm>
          <a:custGeom>
            <a:avLst/>
            <a:gdLst/>
            <a:ahLst/>
            <a:rect l="l" t="t" r="r" b="b"/>
            <a:pathLst>
              <a:path w="51" h="2109">
                <a:moveTo>
                  <a:pt x="14213" y="12626"/>
                </a:moveTo>
                <a:cubicBezTo>
                  <a:pt x="14213" y="12538"/>
                  <a:pt x="14189" y="13298"/>
                  <a:pt x="14188" y="13345"/>
                </a:cubicBezTo>
                <a:cubicBezTo>
                  <a:pt x="14180" y="13751"/>
                  <a:pt x="14136" y="14181"/>
                  <a:pt x="14188" y="14585"/>
                </a:cubicBezTo>
                <a:cubicBezTo>
                  <a:pt x="14207" y="14643"/>
                  <a:pt x="14216" y="14649"/>
                  <a:pt x="14213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57880" y="4653000"/>
            <a:ext cx="277920" cy="142920"/>
          </a:xfrm>
          <a:custGeom>
            <a:avLst/>
            <a:gdLst/>
            <a:ahLst/>
            <a:rect l="l" t="t" r="r" b="b"/>
            <a:pathLst>
              <a:path w="770" h="398">
                <a:moveTo>
                  <a:pt x="14982" y="12948"/>
                </a:moveTo>
                <a:cubicBezTo>
                  <a:pt x="15072" y="12925"/>
                  <a:pt x="15096" y="12917"/>
                  <a:pt x="15156" y="12923"/>
                </a:cubicBezTo>
                <a:cubicBezTo>
                  <a:pt x="15143" y="13042"/>
                  <a:pt x="15107" y="13080"/>
                  <a:pt x="15007" y="13146"/>
                </a:cubicBezTo>
                <a:cubicBezTo>
                  <a:pt x="15073" y="13090"/>
                  <a:pt x="15234" y="13070"/>
                  <a:pt x="15156" y="13221"/>
                </a:cubicBezTo>
                <a:cubicBezTo>
                  <a:pt x="15109" y="13311"/>
                  <a:pt x="14861" y="13327"/>
                  <a:pt x="14883" y="13196"/>
                </a:cubicBezTo>
                <a:cubicBezTo>
                  <a:pt x="14899" y="13171"/>
                  <a:pt x="14916" y="13147"/>
                  <a:pt x="14932" y="13122"/>
                </a:cubicBezTo>
              </a:path>
              <a:path w="770" h="398">
                <a:moveTo>
                  <a:pt x="15478" y="12973"/>
                </a:moveTo>
                <a:cubicBezTo>
                  <a:pt x="15328" y="13035"/>
                  <a:pt x="15300" y="13122"/>
                  <a:pt x="15329" y="13295"/>
                </a:cubicBezTo>
                <a:cubicBezTo>
                  <a:pt x="15457" y="13302"/>
                  <a:pt x="15791" y="13251"/>
                  <a:pt x="15627" y="13022"/>
                </a:cubicBezTo>
                <a:cubicBezTo>
                  <a:pt x="15586" y="12997"/>
                  <a:pt x="15544" y="12973"/>
                  <a:pt x="15503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36920" y="3384720"/>
            <a:ext cx="1098360" cy="1768320"/>
          </a:xfrm>
          <a:custGeom>
            <a:avLst/>
            <a:gdLst/>
            <a:ahLst/>
            <a:rect l="l" t="t" r="r" b="b"/>
            <a:pathLst>
              <a:path w="3052" h="4912">
                <a:moveTo>
                  <a:pt x="7466" y="9575"/>
                </a:moveTo>
                <a:cubicBezTo>
                  <a:pt x="7583" y="9591"/>
                  <a:pt x="7567" y="9719"/>
                  <a:pt x="7615" y="9823"/>
                </a:cubicBezTo>
                <a:cubicBezTo>
                  <a:pt x="7632" y="9856"/>
                  <a:pt x="7648" y="9889"/>
                  <a:pt x="7665" y="9922"/>
                </a:cubicBezTo>
              </a:path>
              <a:path w="3052" h="4912">
                <a:moveTo>
                  <a:pt x="7714" y="9599"/>
                </a:moveTo>
                <a:cubicBezTo>
                  <a:pt x="7642" y="9718"/>
                  <a:pt x="7571" y="9833"/>
                  <a:pt x="7491" y="9947"/>
                </a:cubicBezTo>
              </a:path>
              <a:path w="3052" h="4912">
                <a:moveTo>
                  <a:pt x="8806" y="9401"/>
                </a:moveTo>
                <a:cubicBezTo>
                  <a:pt x="8844" y="9499"/>
                  <a:pt x="8885" y="9599"/>
                  <a:pt x="8905" y="9699"/>
                </a:cubicBezTo>
              </a:path>
              <a:path w="3052" h="4912">
                <a:moveTo>
                  <a:pt x="8979" y="9401"/>
                </a:moveTo>
                <a:cubicBezTo>
                  <a:pt x="8946" y="9548"/>
                  <a:pt x="8921" y="9718"/>
                  <a:pt x="8855" y="9847"/>
                </a:cubicBezTo>
              </a:path>
              <a:path w="3052" h="4912">
                <a:moveTo>
                  <a:pt x="7491" y="10096"/>
                </a:moveTo>
                <a:cubicBezTo>
                  <a:pt x="7486" y="10192"/>
                  <a:pt x="7478" y="10273"/>
                  <a:pt x="7466" y="10368"/>
                </a:cubicBezTo>
              </a:path>
              <a:path w="3052" h="4912">
                <a:moveTo>
                  <a:pt x="7739" y="10145"/>
                </a:moveTo>
                <a:cubicBezTo>
                  <a:pt x="7655" y="10222"/>
                  <a:pt x="7605" y="10277"/>
                  <a:pt x="7590" y="10393"/>
                </a:cubicBezTo>
                <a:cubicBezTo>
                  <a:pt x="7662" y="10380"/>
                  <a:pt x="7857" y="10353"/>
                  <a:pt x="7863" y="10244"/>
                </a:cubicBezTo>
                <a:cubicBezTo>
                  <a:pt x="7867" y="10172"/>
                  <a:pt x="7781" y="10175"/>
                  <a:pt x="7739" y="10170"/>
                </a:cubicBezTo>
              </a:path>
              <a:path w="3052" h="4912">
                <a:moveTo>
                  <a:pt x="7466" y="10691"/>
                </a:moveTo>
                <a:cubicBezTo>
                  <a:pt x="7575" y="10664"/>
                  <a:pt x="7736" y="10673"/>
                  <a:pt x="7640" y="10840"/>
                </a:cubicBezTo>
                <a:cubicBezTo>
                  <a:pt x="7599" y="10911"/>
                  <a:pt x="7500" y="10979"/>
                  <a:pt x="7441" y="11038"/>
                </a:cubicBezTo>
                <a:cubicBezTo>
                  <a:pt x="7531" y="11038"/>
                  <a:pt x="7606" y="11041"/>
                  <a:pt x="7689" y="11013"/>
                </a:cubicBezTo>
              </a:path>
              <a:path w="3052" h="4912">
                <a:moveTo>
                  <a:pt x="7938" y="10740"/>
                </a:moveTo>
                <a:cubicBezTo>
                  <a:pt x="7843" y="10812"/>
                  <a:pt x="7825" y="10867"/>
                  <a:pt x="7813" y="10988"/>
                </a:cubicBezTo>
                <a:cubicBezTo>
                  <a:pt x="7923" y="11006"/>
                  <a:pt x="8085" y="10987"/>
                  <a:pt x="8037" y="10815"/>
                </a:cubicBezTo>
                <a:cubicBezTo>
                  <a:pt x="7985" y="10763"/>
                  <a:pt x="7966" y="10746"/>
                  <a:pt x="7913" y="10740"/>
                </a:cubicBezTo>
              </a:path>
              <a:path w="3052" h="4912">
                <a:moveTo>
                  <a:pt x="7491" y="11485"/>
                </a:moveTo>
                <a:cubicBezTo>
                  <a:pt x="7650" y="11462"/>
                  <a:pt x="7639" y="11449"/>
                  <a:pt x="7590" y="11609"/>
                </a:cubicBezTo>
                <a:cubicBezTo>
                  <a:pt x="7472" y="11687"/>
                  <a:pt x="7739" y="11541"/>
                  <a:pt x="7665" y="11733"/>
                </a:cubicBezTo>
                <a:cubicBezTo>
                  <a:pt x="7613" y="11867"/>
                  <a:pt x="7452" y="11794"/>
                  <a:pt x="7417" y="11733"/>
                </a:cubicBezTo>
              </a:path>
              <a:path w="3052" h="4912">
                <a:moveTo>
                  <a:pt x="7888" y="11435"/>
                </a:moveTo>
                <a:cubicBezTo>
                  <a:pt x="7831" y="11598"/>
                  <a:pt x="7757" y="11706"/>
                  <a:pt x="7888" y="11807"/>
                </a:cubicBezTo>
                <a:cubicBezTo>
                  <a:pt x="8000" y="11705"/>
                  <a:pt x="7996" y="11708"/>
                  <a:pt x="7987" y="11559"/>
                </a:cubicBezTo>
              </a:path>
              <a:path w="3052" h="4912">
                <a:moveTo>
                  <a:pt x="7045" y="10517"/>
                </a:moveTo>
                <a:cubicBezTo>
                  <a:pt x="7131" y="10517"/>
                  <a:pt x="7165" y="10536"/>
                  <a:pt x="7243" y="10567"/>
                </a:cubicBezTo>
                <a:cubicBezTo>
                  <a:pt x="7317" y="10596"/>
                  <a:pt x="7438" y="10632"/>
                  <a:pt x="7516" y="10641"/>
                </a:cubicBezTo>
                <a:cubicBezTo>
                  <a:pt x="7617" y="10653"/>
                  <a:pt x="7711" y="10666"/>
                  <a:pt x="7813" y="10666"/>
                </a:cubicBezTo>
                <a:cubicBezTo>
                  <a:pt x="7983" y="10666"/>
                  <a:pt x="8145" y="10664"/>
                  <a:pt x="8310" y="10641"/>
                </a:cubicBezTo>
                <a:cubicBezTo>
                  <a:pt x="8397" y="10629"/>
                  <a:pt x="8496" y="10623"/>
                  <a:pt x="8582" y="10616"/>
                </a:cubicBezTo>
                <a:cubicBezTo>
                  <a:pt x="8758" y="10601"/>
                  <a:pt x="8930" y="10611"/>
                  <a:pt x="9103" y="10616"/>
                </a:cubicBezTo>
                <a:cubicBezTo>
                  <a:pt x="9433" y="10626"/>
                  <a:pt x="9765" y="10616"/>
                  <a:pt x="10096" y="10616"/>
                </a:cubicBezTo>
              </a:path>
              <a:path w="3052" h="4912">
                <a:moveTo>
                  <a:pt x="7169" y="11187"/>
                </a:moveTo>
                <a:cubicBezTo>
                  <a:pt x="7273" y="11204"/>
                  <a:pt x="7360" y="11212"/>
                  <a:pt x="7466" y="11212"/>
                </a:cubicBezTo>
                <a:cubicBezTo>
                  <a:pt x="7615" y="11212"/>
                  <a:pt x="7761" y="11237"/>
                  <a:pt x="7913" y="11237"/>
                </a:cubicBezTo>
                <a:cubicBezTo>
                  <a:pt x="8104" y="11237"/>
                  <a:pt x="8291" y="11261"/>
                  <a:pt x="8483" y="11261"/>
                </a:cubicBezTo>
                <a:cubicBezTo>
                  <a:pt x="8677" y="11261"/>
                  <a:pt x="8863" y="11260"/>
                  <a:pt x="9054" y="11237"/>
                </a:cubicBezTo>
                <a:cubicBezTo>
                  <a:pt x="9199" y="11219"/>
                  <a:pt x="9368" y="11229"/>
                  <a:pt x="9500" y="11212"/>
                </a:cubicBezTo>
                <a:cubicBezTo>
                  <a:pt x="9611" y="11197"/>
                  <a:pt x="9734" y="11212"/>
                  <a:pt x="9847" y="11212"/>
                </a:cubicBezTo>
              </a:path>
              <a:path w="3052" h="4912">
                <a:moveTo>
                  <a:pt x="8756" y="10145"/>
                </a:moveTo>
                <a:cubicBezTo>
                  <a:pt x="8780" y="10074"/>
                  <a:pt x="8787" y="10051"/>
                  <a:pt x="8830" y="10021"/>
                </a:cubicBezTo>
                <a:cubicBezTo>
                  <a:pt x="8935" y="10108"/>
                  <a:pt x="8840" y="10258"/>
                  <a:pt x="8731" y="10368"/>
                </a:cubicBezTo>
                <a:cubicBezTo>
                  <a:pt x="8666" y="10412"/>
                  <a:pt x="8637" y="10438"/>
                  <a:pt x="8682" y="10368"/>
                </a:cubicBezTo>
                <a:cubicBezTo>
                  <a:pt x="8796" y="10350"/>
                  <a:pt x="8829" y="10336"/>
                  <a:pt x="8930" y="10368"/>
                </a:cubicBezTo>
              </a:path>
              <a:path w="3052" h="4912">
                <a:moveTo>
                  <a:pt x="9178" y="10170"/>
                </a:moveTo>
                <a:cubicBezTo>
                  <a:pt x="9047" y="10159"/>
                  <a:pt x="8954" y="10229"/>
                  <a:pt x="8954" y="10393"/>
                </a:cubicBezTo>
                <a:cubicBezTo>
                  <a:pt x="8962" y="10410"/>
                  <a:pt x="8971" y="10426"/>
                  <a:pt x="8979" y="10443"/>
                </a:cubicBezTo>
                <a:cubicBezTo>
                  <a:pt x="9088" y="10425"/>
                  <a:pt x="9374" y="10374"/>
                  <a:pt x="9351" y="10195"/>
                </a:cubicBezTo>
                <a:cubicBezTo>
                  <a:pt x="9300" y="10143"/>
                  <a:pt x="9281" y="10125"/>
                  <a:pt x="9227" y="10120"/>
                </a:cubicBezTo>
              </a:path>
              <a:path w="3052" h="4912">
                <a:moveTo>
                  <a:pt x="8855" y="10790"/>
                </a:moveTo>
                <a:cubicBezTo>
                  <a:pt x="8813" y="10906"/>
                  <a:pt x="8784" y="10952"/>
                  <a:pt x="8806" y="11063"/>
                </a:cubicBezTo>
                <a:cubicBezTo>
                  <a:pt x="8901" y="11044"/>
                  <a:pt x="8996" y="11030"/>
                  <a:pt x="9079" y="10988"/>
                </a:cubicBezTo>
              </a:path>
              <a:path w="3052" h="4912">
                <a:moveTo>
                  <a:pt x="9103" y="10790"/>
                </a:moveTo>
                <a:cubicBezTo>
                  <a:pt x="9067" y="10915"/>
                  <a:pt x="9038" y="11037"/>
                  <a:pt x="9004" y="11162"/>
                </a:cubicBezTo>
              </a:path>
              <a:path w="3052" h="4912">
                <a:moveTo>
                  <a:pt x="9351" y="10790"/>
                </a:moveTo>
                <a:cubicBezTo>
                  <a:pt x="9276" y="10903"/>
                  <a:pt x="9229" y="10982"/>
                  <a:pt x="9203" y="11112"/>
                </a:cubicBezTo>
                <a:cubicBezTo>
                  <a:pt x="9299" y="11182"/>
                  <a:pt x="9453" y="11128"/>
                  <a:pt x="9475" y="10964"/>
                </a:cubicBezTo>
                <a:cubicBezTo>
                  <a:pt x="9454" y="10875"/>
                  <a:pt x="9453" y="10849"/>
                  <a:pt x="9401" y="10815"/>
                </a:cubicBezTo>
              </a:path>
              <a:path w="3052" h="4912">
                <a:moveTo>
                  <a:pt x="9004" y="11534"/>
                </a:moveTo>
                <a:cubicBezTo>
                  <a:pt x="8948" y="11634"/>
                  <a:pt x="8830" y="11756"/>
                  <a:pt x="8855" y="11881"/>
                </a:cubicBezTo>
                <a:cubicBezTo>
                  <a:pt x="8883" y="12019"/>
                  <a:pt x="9062" y="11928"/>
                  <a:pt x="9128" y="11881"/>
                </a:cubicBezTo>
                <a:cubicBezTo>
                  <a:pt x="9191" y="11819"/>
                  <a:pt x="9209" y="11809"/>
                  <a:pt x="9227" y="11757"/>
                </a:cubicBezTo>
                <a:cubicBezTo>
                  <a:pt x="9090" y="11708"/>
                  <a:pt x="9087" y="11768"/>
                  <a:pt x="9004" y="11906"/>
                </a:cubicBezTo>
              </a:path>
              <a:path w="3052" h="4912">
                <a:moveTo>
                  <a:pt x="9426" y="11584"/>
                </a:moveTo>
                <a:cubicBezTo>
                  <a:pt x="9332" y="11631"/>
                  <a:pt x="9262" y="11752"/>
                  <a:pt x="9277" y="11881"/>
                </a:cubicBezTo>
                <a:cubicBezTo>
                  <a:pt x="9285" y="11898"/>
                  <a:pt x="9294" y="11914"/>
                  <a:pt x="9302" y="11931"/>
                </a:cubicBezTo>
                <a:cubicBezTo>
                  <a:pt x="9409" y="11911"/>
                  <a:pt x="9656" y="11810"/>
                  <a:pt x="9550" y="11633"/>
                </a:cubicBezTo>
                <a:cubicBezTo>
                  <a:pt x="9525" y="11625"/>
                  <a:pt x="9500" y="11617"/>
                  <a:pt x="9475" y="11609"/>
                </a:cubicBezTo>
              </a:path>
              <a:path w="3052" h="4912">
                <a:moveTo>
                  <a:pt x="8806" y="12923"/>
                </a:moveTo>
                <a:cubicBezTo>
                  <a:pt x="8948" y="13018"/>
                  <a:pt x="8973" y="13128"/>
                  <a:pt x="9054" y="13271"/>
                </a:cubicBezTo>
                <a:cubicBezTo>
                  <a:pt x="9062" y="13279"/>
                  <a:pt x="9071" y="13287"/>
                  <a:pt x="9079" y="13295"/>
                </a:cubicBezTo>
              </a:path>
              <a:path w="3052" h="4912">
                <a:moveTo>
                  <a:pt x="9178" y="12849"/>
                </a:moveTo>
                <a:cubicBezTo>
                  <a:pt x="9076" y="12983"/>
                  <a:pt x="8901" y="13147"/>
                  <a:pt x="8830" y="13295"/>
                </a:cubicBezTo>
                <a:cubicBezTo>
                  <a:pt x="8830" y="13312"/>
                  <a:pt x="8830" y="13328"/>
                  <a:pt x="8830" y="13345"/>
                </a:cubicBezTo>
              </a:path>
              <a:path w="3052" h="4912">
                <a:moveTo>
                  <a:pt x="9079" y="13742"/>
                </a:moveTo>
                <a:cubicBezTo>
                  <a:pt x="9150" y="13838"/>
                  <a:pt x="9218" y="13931"/>
                  <a:pt x="9302" y="14015"/>
                </a:cubicBezTo>
              </a:path>
              <a:path w="3052" h="4912">
                <a:moveTo>
                  <a:pt x="9376" y="13667"/>
                </a:moveTo>
                <a:cubicBezTo>
                  <a:pt x="9353" y="13850"/>
                  <a:pt x="9275" y="13996"/>
                  <a:pt x="9203" y="14163"/>
                </a:cubicBezTo>
                <a:cubicBezTo>
                  <a:pt x="9167" y="14254"/>
                  <a:pt x="9150" y="14259"/>
                  <a:pt x="9153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0120" y="4929120"/>
            <a:ext cx="223920" cy="162000"/>
          </a:xfrm>
          <a:custGeom>
            <a:avLst/>
            <a:gdLst/>
            <a:ahLst/>
            <a:rect l="l" t="t" r="r" b="b"/>
            <a:pathLst>
              <a:path w="621" h="448">
                <a:moveTo>
                  <a:pt x="10666" y="13692"/>
                </a:moveTo>
                <a:cubicBezTo>
                  <a:pt x="10666" y="13833"/>
                  <a:pt x="10666" y="13973"/>
                  <a:pt x="10666" y="14114"/>
                </a:cubicBezTo>
              </a:path>
              <a:path w="621" h="448">
                <a:moveTo>
                  <a:pt x="11013" y="13742"/>
                </a:moveTo>
                <a:cubicBezTo>
                  <a:pt x="11006" y="13868"/>
                  <a:pt x="10966" y="13998"/>
                  <a:pt x="10988" y="14114"/>
                </a:cubicBezTo>
                <a:cubicBezTo>
                  <a:pt x="11120" y="14114"/>
                  <a:pt x="11180" y="14123"/>
                  <a:pt x="11261" y="14015"/>
                </a:cubicBezTo>
                <a:cubicBezTo>
                  <a:pt x="11281" y="13974"/>
                  <a:pt x="11290" y="13968"/>
                  <a:pt x="11286" y="13940"/>
                </a:cubicBezTo>
                <a:cubicBezTo>
                  <a:pt x="11165" y="13907"/>
                  <a:pt x="11112" y="13897"/>
                  <a:pt x="11063" y="14039"/>
                </a:cubicBezTo>
                <a:cubicBezTo>
                  <a:pt x="11063" y="14089"/>
                  <a:pt x="11063" y="14106"/>
                  <a:pt x="11063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87840" y="4956120"/>
            <a:ext cx="2000160" cy="1152720"/>
          </a:xfrm>
          <a:custGeom>
            <a:avLst/>
            <a:gdLst/>
            <a:ahLst/>
            <a:rect l="l" t="t" r="r" b="b"/>
            <a:pathLst>
              <a:path w="5558" h="3200">
                <a:moveTo>
                  <a:pt x="12576" y="13841"/>
                </a:moveTo>
                <a:cubicBezTo>
                  <a:pt x="12604" y="13784"/>
                  <a:pt x="12620" y="13766"/>
                  <a:pt x="12675" y="13767"/>
                </a:cubicBezTo>
                <a:cubicBezTo>
                  <a:pt x="12687" y="13958"/>
                  <a:pt x="12619" y="14030"/>
                  <a:pt x="12477" y="14163"/>
                </a:cubicBezTo>
                <a:cubicBezTo>
                  <a:pt x="12581" y="14144"/>
                  <a:pt x="12664" y="14114"/>
                  <a:pt x="12774" y="14114"/>
                </a:cubicBezTo>
              </a:path>
              <a:path w="5558" h="3200">
                <a:moveTo>
                  <a:pt x="13072" y="13791"/>
                </a:moveTo>
                <a:cubicBezTo>
                  <a:pt x="13024" y="13911"/>
                  <a:pt x="13022" y="14010"/>
                  <a:pt x="13022" y="14139"/>
                </a:cubicBezTo>
                <a:cubicBezTo>
                  <a:pt x="13173" y="14131"/>
                  <a:pt x="13252" y="14138"/>
                  <a:pt x="13345" y="14015"/>
                </a:cubicBezTo>
                <a:cubicBezTo>
                  <a:pt x="13333" y="13945"/>
                  <a:pt x="13271" y="13940"/>
                  <a:pt x="13221" y="14015"/>
                </a:cubicBezTo>
                <a:cubicBezTo>
                  <a:pt x="13184" y="14088"/>
                  <a:pt x="13167" y="14093"/>
                  <a:pt x="13171" y="14139"/>
                </a:cubicBezTo>
              </a:path>
              <a:path w="5558" h="3200">
                <a:moveTo>
                  <a:pt x="15007" y="13940"/>
                </a:moveTo>
                <a:cubicBezTo>
                  <a:pt x="15063" y="13911"/>
                  <a:pt x="15087" y="13901"/>
                  <a:pt x="15131" y="13891"/>
                </a:cubicBezTo>
                <a:cubicBezTo>
                  <a:pt x="15188" y="14035"/>
                  <a:pt x="15122" y="14033"/>
                  <a:pt x="14982" y="14089"/>
                </a:cubicBezTo>
                <a:cubicBezTo>
                  <a:pt x="15012" y="14074"/>
                  <a:pt x="15226" y="14023"/>
                  <a:pt x="15156" y="14139"/>
                </a:cubicBezTo>
                <a:cubicBezTo>
                  <a:pt x="15094" y="14242"/>
                  <a:pt x="14972" y="14179"/>
                  <a:pt x="14883" y="14163"/>
                </a:cubicBezTo>
              </a:path>
              <a:path w="5558" h="3200">
                <a:moveTo>
                  <a:pt x="15528" y="13891"/>
                </a:moveTo>
                <a:cubicBezTo>
                  <a:pt x="15516" y="14000"/>
                  <a:pt x="15476" y="14105"/>
                  <a:pt x="15453" y="14213"/>
                </a:cubicBezTo>
                <a:cubicBezTo>
                  <a:pt x="15426" y="14339"/>
                  <a:pt x="15650" y="14299"/>
                  <a:pt x="15701" y="14288"/>
                </a:cubicBezTo>
                <a:cubicBezTo>
                  <a:pt x="15776" y="14263"/>
                  <a:pt x="15801" y="14255"/>
                  <a:pt x="15801" y="14188"/>
                </a:cubicBezTo>
                <a:cubicBezTo>
                  <a:pt x="15742" y="14086"/>
                  <a:pt x="15626" y="14090"/>
                  <a:pt x="15553" y="14213"/>
                </a:cubicBezTo>
                <a:cubicBezTo>
                  <a:pt x="15534" y="14271"/>
                  <a:pt x="15525" y="14277"/>
                  <a:pt x="15528" y="14312"/>
                </a:cubicBezTo>
              </a:path>
              <a:path w="5558" h="3200">
                <a:moveTo>
                  <a:pt x="10716" y="16346"/>
                </a:moveTo>
                <a:cubicBezTo>
                  <a:pt x="10736" y="16281"/>
                  <a:pt x="10616" y="16341"/>
                  <a:pt x="10542" y="16346"/>
                </a:cubicBezTo>
                <a:cubicBezTo>
                  <a:pt x="10467" y="16351"/>
                  <a:pt x="10435" y="16443"/>
                  <a:pt x="10393" y="16495"/>
                </a:cubicBezTo>
                <a:cubicBezTo>
                  <a:pt x="10517" y="16517"/>
                  <a:pt x="10701" y="16479"/>
                  <a:pt x="10740" y="16619"/>
                </a:cubicBezTo>
                <a:cubicBezTo>
                  <a:pt x="10793" y="16811"/>
                  <a:pt x="10470" y="16811"/>
                  <a:pt x="10368" y="16793"/>
                </a:cubicBezTo>
                <a:cubicBezTo>
                  <a:pt x="10327" y="16776"/>
                  <a:pt x="10285" y="16760"/>
                  <a:pt x="10244" y="16743"/>
                </a:cubicBezTo>
              </a:path>
              <a:path w="5558" h="3200">
                <a:moveTo>
                  <a:pt x="12129" y="16396"/>
                </a:moveTo>
                <a:cubicBezTo>
                  <a:pt x="12201" y="16548"/>
                  <a:pt x="12204" y="16672"/>
                  <a:pt x="12204" y="16842"/>
                </a:cubicBezTo>
              </a:path>
              <a:path w="5558" h="3200">
                <a:moveTo>
                  <a:pt x="12576" y="16495"/>
                </a:moveTo>
                <a:cubicBezTo>
                  <a:pt x="12527" y="16642"/>
                  <a:pt x="12510" y="16690"/>
                  <a:pt x="12502" y="16793"/>
                </a:cubicBezTo>
                <a:cubicBezTo>
                  <a:pt x="12664" y="16862"/>
                  <a:pt x="12849" y="16838"/>
                  <a:pt x="12849" y="16594"/>
                </a:cubicBezTo>
                <a:cubicBezTo>
                  <a:pt x="12832" y="16553"/>
                  <a:pt x="12816" y="16511"/>
                  <a:pt x="12799" y="16470"/>
                </a:cubicBezTo>
              </a:path>
              <a:path w="5558" h="3200">
                <a:moveTo>
                  <a:pt x="14585" y="16396"/>
                </a:moveTo>
                <a:cubicBezTo>
                  <a:pt x="14577" y="16546"/>
                  <a:pt x="14549" y="16693"/>
                  <a:pt x="14536" y="16842"/>
                </a:cubicBezTo>
              </a:path>
              <a:path w="5558" h="3200">
                <a:moveTo>
                  <a:pt x="15056" y="16470"/>
                </a:moveTo>
                <a:cubicBezTo>
                  <a:pt x="14969" y="16496"/>
                  <a:pt x="14840" y="16462"/>
                  <a:pt x="14784" y="16545"/>
                </a:cubicBezTo>
                <a:cubicBezTo>
                  <a:pt x="14749" y="16598"/>
                  <a:pt x="14759" y="16659"/>
                  <a:pt x="14759" y="16718"/>
                </a:cubicBezTo>
                <a:cubicBezTo>
                  <a:pt x="14902" y="16718"/>
                  <a:pt x="14991" y="16698"/>
                  <a:pt x="15081" y="16818"/>
                </a:cubicBezTo>
                <a:cubicBezTo>
                  <a:pt x="15209" y="16989"/>
                  <a:pt x="14904" y="16958"/>
                  <a:pt x="14833" y="16942"/>
                </a:cubicBezTo>
                <a:cubicBezTo>
                  <a:pt x="14792" y="16925"/>
                  <a:pt x="14750" y="16909"/>
                  <a:pt x="14709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1960" y="5483160"/>
            <a:ext cx="500040" cy="669960"/>
          </a:xfrm>
          <a:custGeom>
            <a:avLst/>
            <a:gdLst/>
            <a:ahLst/>
            <a:rect l="l" t="t" r="r" b="b"/>
            <a:pathLst>
              <a:path w="1390" h="1861">
                <a:moveTo>
                  <a:pt x="8781" y="15329"/>
                </a:moveTo>
                <a:lnTo>
                  <a:pt x="8781" y="15329"/>
                </a:lnTo>
              </a:path>
              <a:path w="1390" h="1861">
                <a:moveTo>
                  <a:pt x="9103" y="15230"/>
                </a:moveTo>
                <a:cubicBezTo>
                  <a:pt x="9172" y="15357"/>
                  <a:pt x="9192" y="15480"/>
                  <a:pt x="9203" y="15627"/>
                </a:cubicBezTo>
                <a:cubicBezTo>
                  <a:pt x="9215" y="15785"/>
                  <a:pt x="9224" y="15941"/>
                  <a:pt x="9252" y="16098"/>
                </a:cubicBezTo>
                <a:cubicBezTo>
                  <a:pt x="9283" y="16272"/>
                  <a:pt x="9315" y="16431"/>
                  <a:pt x="9376" y="16594"/>
                </a:cubicBezTo>
                <a:cubicBezTo>
                  <a:pt x="9411" y="16688"/>
                  <a:pt x="9436" y="16797"/>
                  <a:pt x="9451" y="16892"/>
                </a:cubicBezTo>
                <a:cubicBezTo>
                  <a:pt x="9461" y="16954"/>
                  <a:pt x="9451" y="17027"/>
                  <a:pt x="9451" y="17090"/>
                </a:cubicBezTo>
              </a:path>
              <a:path w="1390" h="1861">
                <a:moveTo>
                  <a:pt x="8086" y="15751"/>
                </a:moveTo>
                <a:cubicBezTo>
                  <a:pt x="8059" y="15705"/>
                  <a:pt x="8062" y="15684"/>
                  <a:pt x="8062" y="15627"/>
                </a:cubicBezTo>
                <a:cubicBezTo>
                  <a:pt x="8212" y="15732"/>
                  <a:pt x="8313" y="15836"/>
                  <a:pt x="8434" y="15974"/>
                </a:cubicBezTo>
              </a:path>
              <a:path w="1390" h="1861">
                <a:moveTo>
                  <a:pt x="8458" y="15553"/>
                </a:moveTo>
                <a:cubicBezTo>
                  <a:pt x="8354" y="15699"/>
                  <a:pt x="8277" y="15859"/>
                  <a:pt x="8161" y="15999"/>
                </a:cubicBezTo>
              </a:path>
              <a:path w="1390" h="1861">
                <a:moveTo>
                  <a:pt x="8285" y="16371"/>
                </a:moveTo>
                <a:cubicBezTo>
                  <a:pt x="8214" y="16230"/>
                  <a:pt x="8449" y="16511"/>
                  <a:pt x="8483" y="16545"/>
                </a:cubicBezTo>
              </a:path>
              <a:path w="1390" h="1861">
                <a:moveTo>
                  <a:pt x="8558" y="16197"/>
                </a:moveTo>
                <a:cubicBezTo>
                  <a:pt x="8533" y="16373"/>
                  <a:pt x="8459" y="16542"/>
                  <a:pt x="8434" y="16718"/>
                </a:cubicBezTo>
                <a:cubicBezTo>
                  <a:pt x="8434" y="16776"/>
                  <a:pt x="8434" y="16785"/>
                  <a:pt x="8434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6840" y="5589720"/>
            <a:ext cx="9360" cy="13464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0046" y="15528"/>
                </a:moveTo>
                <a:cubicBezTo>
                  <a:pt x="9996" y="15643"/>
                  <a:pt x="10021" y="15775"/>
                  <a:pt x="1002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51200" y="5607000"/>
            <a:ext cx="133560" cy="171360"/>
          </a:xfrm>
          <a:custGeom>
            <a:avLst/>
            <a:gdLst/>
            <a:ahLst/>
            <a:rect l="l" t="t" r="r" b="b"/>
            <a:pathLst>
              <a:path w="373" h="473">
                <a:moveTo>
                  <a:pt x="10592" y="15577"/>
                </a:moveTo>
                <a:cubicBezTo>
                  <a:pt x="10445" y="15753"/>
                  <a:pt x="10380" y="15830"/>
                  <a:pt x="10468" y="16049"/>
                </a:cubicBezTo>
                <a:cubicBezTo>
                  <a:pt x="10594" y="15992"/>
                  <a:pt x="10922" y="15875"/>
                  <a:pt x="10740" y="15677"/>
                </a:cubicBezTo>
                <a:cubicBezTo>
                  <a:pt x="10707" y="15669"/>
                  <a:pt x="10674" y="15660"/>
                  <a:pt x="10641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5537160"/>
            <a:ext cx="54000" cy="606600"/>
          </a:xfrm>
          <a:custGeom>
            <a:avLst/>
            <a:gdLst/>
            <a:ahLst/>
            <a:rect l="l" t="t" r="r" b="b"/>
            <a:pathLst>
              <a:path w="150" h="1688">
                <a:moveTo>
                  <a:pt x="11435" y="15379"/>
                </a:moveTo>
                <a:cubicBezTo>
                  <a:pt x="11455" y="15651"/>
                  <a:pt x="11486" y="15924"/>
                  <a:pt x="11509" y="16197"/>
                </a:cubicBezTo>
                <a:cubicBezTo>
                  <a:pt x="11533" y="16486"/>
                  <a:pt x="11555" y="16778"/>
                  <a:pt x="11584" y="17066"/>
                </a:cubicBezTo>
                <a:cubicBezTo>
                  <a:pt x="11584" y="17049"/>
                  <a:pt x="11584" y="17033"/>
                  <a:pt x="11584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4800" y="5643720"/>
            <a:ext cx="374400" cy="125280"/>
          </a:xfrm>
          <a:custGeom>
            <a:avLst/>
            <a:gdLst/>
            <a:ahLst/>
            <a:rect l="l" t="t" r="r" b="b"/>
            <a:pathLst>
              <a:path w="1043" h="348">
                <a:moveTo>
                  <a:pt x="12303" y="15677"/>
                </a:moveTo>
                <a:cubicBezTo>
                  <a:pt x="12458" y="15720"/>
                  <a:pt x="12662" y="15914"/>
                  <a:pt x="12378" y="15999"/>
                </a:cubicBezTo>
                <a:cubicBezTo>
                  <a:pt x="12236" y="16042"/>
                  <a:pt x="12207" y="15992"/>
                  <a:pt x="12179" y="15900"/>
                </a:cubicBezTo>
                <a:cubicBezTo>
                  <a:pt x="12366" y="15890"/>
                  <a:pt x="12494" y="15964"/>
                  <a:pt x="12675" y="16024"/>
                </a:cubicBezTo>
              </a:path>
              <a:path w="1043" h="348">
                <a:moveTo>
                  <a:pt x="13022" y="15701"/>
                </a:moveTo>
                <a:cubicBezTo>
                  <a:pt x="12922" y="15802"/>
                  <a:pt x="12889" y="15836"/>
                  <a:pt x="12849" y="15925"/>
                </a:cubicBezTo>
                <a:cubicBezTo>
                  <a:pt x="12945" y="16012"/>
                  <a:pt x="13170" y="16095"/>
                  <a:pt x="13221" y="15875"/>
                </a:cubicBezTo>
                <a:cubicBezTo>
                  <a:pt x="13200" y="15769"/>
                  <a:pt x="13204" y="15741"/>
                  <a:pt x="13146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11840" y="5491080"/>
            <a:ext cx="106200" cy="617760"/>
          </a:xfrm>
          <a:custGeom>
            <a:avLst/>
            <a:gdLst/>
            <a:ahLst/>
            <a:rect l="l" t="t" r="r" b="b"/>
            <a:pathLst>
              <a:path w="298" h="1712">
                <a:moveTo>
                  <a:pt x="13643" y="15255"/>
                </a:moveTo>
                <a:cubicBezTo>
                  <a:pt x="13773" y="15656"/>
                  <a:pt x="13843" y="16047"/>
                  <a:pt x="13866" y="16470"/>
                </a:cubicBezTo>
                <a:cubicBezTo>
                  <a:pt x="13866" y="16636"/>
                  <a:pt x="13866" y="16669"/>
                  <a:pt x="13866" y="16768"/>
                </a:cubicBezTo>
              </a:path>
              <a:path w="298" h="1712">
                <a:moveTo>
                  <a:pt x="13841" y="16222"/>
                </a:moveTo>
                <a:cubicBezTo>
                  <a:pt x="13877" y="16177"/>
                  <a:pt x="13894" y="16157"/>
                  <a:pt x="13940" y="16123"/>
                </a:cubicBezTo>
                <a:cubicBezTo>
                  <a:pt x="13940" y="16332"/>
                  <a:pt x="13901" y="16513"/>
                  <a:pt x="13866" y="16718"/>
                </a:cubicBezTo>
                <a:cubicBezTo>
                  <a:pt x="13852" y="16802"/>
                  <a:pt x="13830" y="16884"/>
                  <a:pt x="13816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33960" y="5643720"/>
            <a:ext cx="250920" cy="152280"/>
          </a:xfrm>
          <a:custGeom>
            <a:avLst/>
            <a:gdLst/>
            <a:ahLst/>
            <a:rect l="l" t="t" r="r" b="b"/>
            <a:pathLst>
              <a:path w="695" h="422">
                <a:moveTo>
                  <a:pt x="14263" y="15701"/>
                </a:moveTo>
                <a:cubicBezTo>
                  <a:pt x="14355" y="15695"/>
                  <a:pt x="14444" y="15683"/>
                  <a:pt x="14536" y="15677"/>
                </a:cubicBezTo>
                <a:cubicBezTo>
                  <a:pt x="14503" y="15773"/>
                  <a:pt x="14318" y="15838"/>
                  <a:pt x="14412" y="15900"/>
                </a:cubicBezTo>
                <a:cubicBezTo>
                  <a:pt x="14516" y="15941"/>
                  <a:pt x="14543" y="15943"/>
                  <a:pt x="14585" y="15999"/>
                </a:cubicBezTo>
                <a:cubicBezTo>
                  <a:pt x="14472" y="16034"/>
                  <a:pt x="14428" y="16039"/>
                  <a:pt x="14312" y="16024"/>
                </a:cubicBezTo>
              </a:path>
              <a:path w="695" h="422">
                <a:moveTo>
                  <a:pt x="14883" y="15726"/>
                </a:moveTo>
                <a:cubicBezTo>
                  <a:pt x="14708" y="15850"/>
                  <a:pt x="14588" y="15920"/>
                  <a:pt x="14734" y="16098"/>
                </a:cubicBezTo>
                <a:cubicBezTo>
                  <a:pt x="14877" y="16035"/>
                  <a:pt x="14894" y="16018"/>
                  <a:pt x="14957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8880" y="2394000"/>
            <a:ext cx="2820960" cy="741240"/>
          </a:xfrm>
          <a:custGeom>
            <a:avLst/>
            <a:gdLst/>
            <a:ahLst/>
            <a:rect l="l" t="t" r="r" b="b"/>
            <a:pathLst>
              <a:path w="7839" h="2059">
                <a:moveTo>
                  <a:pt x="11956" y="6821"/>
                </a:moveTo>
                <a:cubicBezTo>
                  <a:pt x="12027" y="7146"/>
                  <a:pt x="11973" y="7408"/>
                  <a:pt x="11931" y="7739"/>
                </a:cubicBezTo>
                <a:cubicBezTo>
                  <a:pt x="11905" y="7947"/>
                  <a:pt x="11901" y="8153"/>
                  <a:pt x="11881" y="8359"/>
                </a:cubicBezTo>
                <a:cubicBezTo>
                  <a:pt x="11861" y="8441"/>
                  <a:pt x="11853" y="8457"/>
                  <a:pt x="11857" y="8508"/>
                </a:cubicBezTo>
                <a:cubicBezTo>
                  <a:pt x="11947" y="8519"/>
                  <a:pt x="12073" y="8531"/>
                  <a:pt x="12179" y="8533"/>
                </a:cubicBezTo>
                <a:cubicBezTo>
                  <a:pt x="12985" y="8545"/>
                  <a:pt x="13780" y="8604"/>
                  <a:pt x="14585" y="8632"/>
                </a:cubicBezTo>
                <a:cubicBezTo>
                  <a:pt x="15078" y="8649"/>
                  <a:pt x="15580" y="8715"/>
                  <a:pt x="16073" y="8706"/>
                </a:cubicBezTo>
                <a:cubicBezTo>
                  <a:pt x="16486" y="8699"/>
                  <a:pt x="16902" y="8669"/>
                  <a:pt x="17314" y="8632"/>
                </a:cubicBezTo>
                <a:cubicBezTo>
                  <a:pt x="17586" y="8608"/>
                  <a:pt x="17861" y="8571"/>
                  <a:pt x="18132" y="8558"/>
                </a:cubicBezTo>
                <a:cubicBezTo>
                  <a:pt x="18464" y="8542"/>
                  <a:pt x="18796" y="8572"/>
                  <a:pt x="19124" y="8533"/>
                </a:cubicBezTo>
                <a:cubicBezTo>
                  <a:pt x="19181" y="8526"/>
                  <a:pt x="19360" y="8535"/>
                  <a:pt x="19397" y="8508"/>
                </a:cubicBezTo>
                <a:cubicBezTo>
                  <a:pt x="19475" y="8451"/>
                  <a:pt x="19469" y="8336"/>
                  <a:pt x="19496" y="8235"/>
                </a:cubicBezTo>
                <a:cubicBezTo>
                  <a:pt x="19553" y="8024"/>
                  <a:pt x="19587" y="7806"/>
                  <a:pt x="19621" y="7590"/>
                </a:cubicBezTo>
                <a:cubicBezTo>
                  <a:pt x="19639" y="7474"/>
                  <a:pt x="19710" y="7306"/>
                  <a:pt x="19695" y="7193"/>
                </a:cubicBezTo>
                <a:cubicBezTo>
                  <a:pt x="19692" y="7172"/>
                  <a:pt x="19629" y="7109"/>
                  <a:pt x="19621" y="7045"/>
                </a:cubicBezTo>
                <a:cubicBezTo>
                  <a:pt x="19606" y="6916"/>
                  <a:pt x="19662" y="6919"/>
                  <a:pt x="19521" y="6846"/>
                </a:cubicBezTo>
                <a:cubicBezTo>
                  <a:pt x="19378" y="6772"/>
                  <a:pt x="19135" y="6749"/>
                  <a:pt x="18976" y="6722"/>
                </a:cubicBezTo>
                <a:cubicBezTo>
                  <a:pt x="18762" y="6686"/>
                  <a:pt x="18546" y="6694"/>
                  <a:pt x="18331" y="6672"/>
                </a:cubicBezTo>
                <a:cubicBezTo>
                  <a:pt x="18092" y="6648"/>
                  <a:pt x="17854" y="6672"/>
                  <a:pt x="17611" y="6672"/>
                </a:cubicBezTo>
                <a:cubicBezTo>
                  <a:pt x="17373" y="6672"/>
                  <a:pt x="17152" y="6707"/>
                  <a:pt x="16917" y="6722"/>
                </a:cubicBezTo>
                <a:cubicBezTo>
                  <a:pt x="16610" y="6742"/>
                  <a:pt x="16307" y="6772"/>
                  <a:pt x="15999" y="6772"/>
                </a:cubicBezTo>
                <a:cubicBezTo>
                  <a:pt x="15237" y="6772"/>
                  <a:pt x="14471" y="6797"/>
                  <a:pt x="13717" y="6722"/>
                </a:cubicBezTo>
                <a:cubicBezTo>
                  <a:pt x="13560" y="6706"/>
                  <a:pt x="13405" y="6699"/>
                  <a:pt x="13246" y="6697"/>
                </a:cubicBezTo>
                <a:cubicBezTo>
                  <a:pt x="12998" y="6694"/>
                  <a:pt x="12747" y="6665"/>
                  <a:pt x="12502" y="6672"/>
                </a:cubicBezTo>
                <a:cubicBezTo>
                  <a:pt x="12372" y="6676"/>
                  <a:pt x="12229" y="6711"/>
                  <a:pt x="12105" y="6722"/>
                </a:cubicBezTo>
                <a:cubicBezTo>
                  <a:pt x="12088" y="6722"/>
                  <a:pt x="12072" y="6722"/>
                  <a:pt x="12055" y="6722"/>
                </a:cubicBezTo>
              </a:path>
              <a:path w="7839" h="2059">
                <a:moveTo>
                  <a:pt x="11931" y="7739"/>
                </a:moveTo>
                <a:cubicBezTo>
                  <a:pt x="12032" y="7705"/>
                  <a:pt x="12123" y="7704"/>
                  <a:pt x="12229" y="7739"/>
                </a:cubicBezTo>
                <a:cubicBezTo>
                  <a:pt x="12413" y="7799"/>
                  <a:pt x="12589" y="7861"/>
                  <a:pt x="12774" y="7913"/>
                </a:cubicBezTo>
                <a:cubicBezTo>
                  <a:pt x="12908" y="7951"/>
                  <a:pt x="13033" y="7981"/>
                  <a:pt x="13171" y="7987"/>
                </a:cubicBezTo>
                <a:cubicBezTo>
                  <a:pt x="13277" y="7992"/>
                  <a:pt x="13367" y="7972"/>
                  <a:pt x="13469" y="7962"/>
                </a:cubicBezTo>
                <a:cubicBezTo>
                  <a:pt x="13557" y="7953"/>
                  <a:pt x="13631" y="7957"/>
                  <a:pt x="13717" y="7938"/>
                </a:cubicBezTo>
              </a:path>
              <a:path w="7839" h="2059">
                <a:moveTo>
                  <a:pt x="12030" y="7764"/>
                </a:moveTo>
                <a:cubicBezTo>
                  <a:pt x="12156" y="7731"/>
                  <a:pt x="12270" y="7698"/>
                  <a:pt x="12402" y="7689"/>
                </a:cubicBezTo>
                <a:cubicBezTo>
                  <a:pt x="12624" y="7673"/>
                  <a:pt x="12856" y="7686"/>
                  <a:pt x="13072" y="7714"/>
                </a:cubicBezTo>
                <a:cubicBezTo>
                  <a:pt x="13210" y="7732"/>
                  <a:pt x="13355" y="7754"/>
                  <a:pt x="13494" y="7764"/>
                </a:cubicBezTo>
                <a:cubicBezTo>
                  <a:pt x="13663" y="7777"/>
                  <a:pt x="13823" y="7796"/>
                  <a:pt x="13990" y="7813"/>
                </a:cubicBezTo>
                <a:cubicBezTo>
                  <a:pt x="15517" y="7972"/>
                  <a:pt x="17096" y="7735"/>
                  <a:pt x="18628" y="7838"/>
                </a:cubicBezTo>
                <a:cubicBezTo>
                  <a:pt x="18766" y="7847"/>
                  <a:pt x="18895" y="7819"/>
                  <a:pt x="19025" y="7813"/>
                </a:cubicBezTo>
                <a:cubicBezTo>
                  <a:pt x="19117" y="7809"/>
                  <a:pt x="19212" y="7795"/>
                  <a:pt x="19298" y="7789"/>
                </a:cubicBezTo>
                <a:cubicBezTo>
                  <a:pt x="19393" y="7782"/>
                  <a:pt x="19482" y="7776"/>
                  <a:pt x="19571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38320" y="4510080"/>
            <a:ext cx="3259440" cy="731880"/>
          </a:xfrm>
          <a:custGeom>
            <a:avLst/>
            <a:gdLst/>
            <a:ahLst/>
            <a:rect l="l" t="t" r="r" b="b"/>
            <a:pathLst>
              <a:path w="9054" h="2035">
                <a:moveTo>
                  <a:pt x="8210" y="12923"/>
                </a:moveTo>
                <a:cubicBezTo>
                  <a:pt x="8355" y="12912"/>
                  <a:pt x="8390" y="12899"/>
                  <a:pt x="8533" y="12874"/>
                </a:cubicBezTo>
                <a:cubicBezTo>
                  <a:pt x="8804" y="12827"/>
                  <a:pt x="9081" y="12802"/>
                  <a:pt x="9351" y="12750"/>
                </a:cubicBezTo>
                <a:cubicBezTo>
                  <a:pt x="9570" y="12708"/>
                  <a:pt x="9776" y="12681"/>
                  <a:pt x="9996" y="12650"/>
                </a:cubicBezTo>
                <a:cubicBezTo>
                  <a:pt x="10209" y="12619"/>
                  <a:pt x="10427" y="12587"/>
                  <a:pt x="10641" y="12576"/>
                </a:cubicBezTo>
                <a:cubicBezTo>
                  <a:pt x="10891" y="12563"/>
                  <a:pt x="11134" y="12531"/>
                  <a:pt x="11385" y="12526"/>
                </a:cubicBezTo>
                <a:cubicBezTo>
                  <a:pt x="11966" y="12514"/>
                  <a:pt x="12543" y="12551"/>
                  <a:pt x="13122" y="12551"/>
                </a:cubicBezTo>
                <a:cubicBezTo>
                  <a:pt x="13441" y="12551"/>
                  <a:pt x="13770" y="12558"/>
                  <a:pt x="14089" y="12576"/>
                </a:cubicBezTo>
                <a:cubicBezTo>
                  <a:pt x="14386" y="12592"/>
                  <a:pt x="14685" y="12607"/>
                  <a:pt x="14982" y="12626"/>
                </a:cubicBezTo>
                <a:cubicBezTo>
                  <a:pt x="15380" y="12652"/>
                  <a:pt x="15775" y="12656"/>
                  <a:pt x="16173" y="12675"/>
                </a:cubicBezTo>
                <a:cubicBezTo>
                  <a:pt x="16347" y="12683"/>
                  <a:pt x="16981" y="12647"/>
                  <a:pt x="17041" y="12849"/>
                </a:cubicBezTo>
                <a:cubicBezTo>
                  <a:pt x="17156" y="13239"/>
                  <a:pt x="17041" y="13749"/>
                  <a:pt x="17115" y="14163"/>
                </a:cubicBezTo>
                <a:cubicBezTo>
                  <a:pt x="17133" y="14264"/>
                  <a:pt x="17162" y="14361"/>
                  <a:pt x="17190" y="14461"/>
                </a:cubicBezTo>
                <a:cubicBezTo>
                  <a:pt x="17198" y="14486"/>
                  <a:pt x="17206" y="14511"/>
                  <a:pt x="17214" y="14536"/>
                </a:cubicBezTo>
                <a:cubicBezTo>
                  <a:pt x="17029" y="14531"/>
                  <a:pt x="16786" y="14509"/>
                  <a:pt x="16594" y="14511"/>
                </a:cubicBezTo>
                <a:cubicBezTo>
                  <a:pt x="16253" y="14514"/>
                  <a:pt x="15918" y="14516"/>
                  <a:pt x="15577" y="14511"/>
                </a:cubicBezTo>
                <a:cubicBezTo>
                  <a:pt x="15416" y="14509"/>
                  <a:pt x="15264" y="14492"/>
                  <a:pt x="15106" y="14486"/>
                </a:cubicBezTo>
                <a:cubicBezTo>
                  <a:pt x="14907" y="14479"/>
                  <a:pt x="14708" y="14480"/>
                  <a:pt x="14511" y="14461"/>
                </a:cubicBezTo>
                <a:cubicBezTo>
                  <a:pt x="14265" y="14437"/>
                  <a:pt x="14014" y="14401"/>
                  <a:pt x="13767" y="14387"/>
                </a:cubicBezTo>
                <a:cubicBezTo>
                  <a:pt x="13535" y="14374"/>
                  <a:pt x="13303" y="14347"/>
                  <a:pt x="13072" y="14337"/>
                </a:cubicBezTo>
                <a:cubicBezTo>
                  <a:pt x="12810" y="14325"/>
                  <a:pt x="12538" y="14319"/>
                  <a:pt x="12278" y="14312"/>
                </a:cubicBezTo>
                <a:cubicBezTo>
                  <a:pt x="12012" y="14305"/>
                  <a:pt x="11750" y="14351"/>
                  <a:pt x="11485" y="14337"/>
                </a:cubicBezTo>
                <a:cubicBezTo>
                  <a:pt x="11246" y="14324"/>
                  <a:pt x="11001" y="14306"/>
                  <a:pt x="10765" y="14263"/>
                </a:cubicBezTo>
                <a:cubicBezTo>
                  <a:pt x="10584" y="14230"/>
                  <a:pt x="10428" y="14218"/>
                  <a:pt x="10244" y="14213"/>
                </a:cubicBezTo>
                <a:cubicBezTo>
                  <a:pt x="10019" y="14207"/>
                  <a:pt x="9799" y="14195"/>
                  <a:pt x="9575" y="14188"/>
                </a:cubicBezTo>
                <a:cubicBezTo>
                  <a:pt x="9399" y="14182"/>
                  <a:pt x="9224" y="14183"/>
                  <a:pt x="9054" y="14213"/>
                </a:cubicBezTo>
                <a:cubicBezTo>
                  <a:pt x="8921" y="14236"/>
                  <a:pt x="8788" y="14264"/>
                  <a:pt x="8657" y="14288"/>
                </a:cubicBezTo>
                <a:cubicBezTo>
                  <a:pt x="8551" y="14308"/>
                  <a:pt x="8442" y="14319"/>
                  <a:pt x="833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63880" y="4840200"/>
            <a:ext cx="3162240" cy="98640"/>
          </a:xfrm>
          <a:custGeom>
            <a:avLst/>
            <a:gdLst/>
            <a:ahLst/>
            <a:rect l="l" t="t" r="r" b="b"/>
            <a:pathLst>
              <a:path w="8782" h="274">
                <a:moveTo>
                  <a:pt x="8334" y="13717"/>
                </a:moveTo>
                <a:cubicBezTo>
                  <a:pt x="8292" y="13717"/>
                  <a:pt x="8266" y="13711"/>
                  <a:pt x="8235" y="13692"/>
                </a:cubicBezTo>
                <a:cubicBezTo>
                  <a:pt x="8386" y="13640"/>
                  <a:pt x="8515" y="13590"/>
                  <a:pt x="8682" y="13568"/>
                </a:cubicBezTo>
                <a:cubicBezTo>
                  <a:pt x="8888" y="13541"/>
                  <a:pt x="9095" y="13537"/>
                  <a:pt x="9302" y="13519"/>
                </a:cubicBezTo>
                <a:cubicBezTo>
                  <a:pt x="9484" y="13503"/>
                  <a:pt x="9665" y="13487"/>
                  <a:pt x="9847" y="13469"/>
                </a:cubicBezTo>
                <a:cubicBezTo>
                  <a:pt x="10005" y="13454"/>
                  <a:pt x="10158" y="13444"/>
                  <a:pt x="10319" y="13444"/>
                </a:cubicBezTo>
                <a:cubicBezTo>
                  <a:pt x="10570" y="13444"/>
                  <a:pt x="10814" y="13459"/>
                  <a:pt x="11063" y="13469"/>
                </a:cubicBezTo>
                <a:cubicBezTo>
                  <a:pt x="11279" y="13478"/>
                  <a:pt x="11493" y="13508"/>
                  <a:pt x="11708" y="13519"/>
                </a:cubicBezTo>
                <a:cubicBezTo>
                  <a:pt x="12022" y="13534"/>
                  <a:pt x="12338" y="13557"/>
                  <a:pt x="12650" y="13593"/>
                </a:cubicBezTo>
                <a:cubicBezTo>
                  <a:pt x="12885" y="13620"/>
                  <a:pt x="13108" y="13643"/>
                  <a:pt x="13345" y="13643"/>
                </a:cubicBezTo>
                <a:cubicBezTo>
                  <a:pt x="13513" y="13643"/>
                  <a:pt x="13677" y="13624"/>
                  <a:pt x="13841" y="13618"/>
                </a:cubicBezTo>
                <a:cubicBezTo>
                  <a:pt x="14256" y="13603"/>
                  <a:pt x="14667" y="13643"/>
                  <a:pt x="15081" y="13643"/>
                </a:cubicBezTo>
                <a:cubicBezTo>
                  <a:pt x="15223" y="13643"/>
                  <a:pt x="15366" y="13661"/>
                  <a:pt x="15503" y="13667"/>
                </a:cubicBezTo>
                <a:cubicBezTo>
                  <a:pt x="15702" y="13676"/>
                  <a:pt x="15900" y="13684"/>
                  <a:pt x="16098" y="13692"/>
                </a:cubicBezTo>
                <a:cubicBezTo>
                  <a:pt x="16267" y="13699"/>
                  <a:pt x="16431" y="13675"/>
                  <a:pt x="16594" y="13667"/>
                </a:cubicBezTo>
                <a:cubicBezTo>
                  <a:pt x="16734" y="13660"/>
                  <a:pt x="16876" y="13667"/>
                  <a:pt x="17016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554360"/>
            <a:ext cx="54000" cy="589320"/>
          </a:xfrm>
          <a:custGeom>
            <a:avLst/>
            <a:gdLst/>
            <a:ahLst/>
            <a:rect l="l" t="t" r="r" b="b"/>
            <a:pathLst>
              <a:path w="150" h="1639">
                <a:moveTo>
                  <a:pt x="9947" y="12725"/>
                </a:moveTo>
                <a:cubicBezTo>
                  <a:pt x="9947" y="12692"/>
                  <a:pt x="9947" y="12675"/>
                  <a:pt x="9947" y="12650"/>
                </a:cubicBezTo>
                <a:cubicBezTo>
                  <a:pt x="10007" y="12823"/>
                  <a:pt x="10002" y="12986"/>
                  <a:pt x="10021" y="13171"/>
                </a:cubicBezTo>
                <a:cubicBezTo>
                  <a:pt x="10040" y="13352"/>
                  <a:pt x="10047" y="13538"/>
                  <a:pt x="10071" y="13717"/>
                </a:cubicBezTo>
                <a:cubicBezTo>
                  <a:pt x="10088" y="13845"/>
                  <a:pt x="10096" y="13960"/>
                  <a:pt x="10096" y="14089"/>
                </a:cubicBezTo>
                <a:cubicBezTo>
                  <a:pt x="10096" y="14155"/>
                  <a:pt x="10096" y="14222"/>
                  <a:pt x="10096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4760" y="5599080"/>
            <a:ext cx="54000" cy="455760"/>
          </a:xfrm>
          <a:custGeom>
            <a:avLst/>
            <a:gdLst/>
            <a:ahLst/>
            <a:rect l="l" t="t" r="r" b="b"/>
            <a:pathLst>
              <a:path w="149" h="1266">
                <a:moveTo>
                  <a:pt x="7541" y="15553"/>
                </a:moveTo>
                <a:cubicBezTo>
                  <a:pt x="7567" y="15834"/>
                  <a:pt x="7625" y="16115"/>
                  <a:pt x="7665" y="16396"/>
                </a:cubicBezTo>
                <a:cubicBezTo>
                  <a:pt x="7686" y="16540"/>
                  <a:pt x="7689" y="16674"/>
                  <a:pt x="7689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14760" y="5491080"/>
            <a:ext cx="3224160" cy="652680"/>
          </a:xfrm>
          <a:custGeom>
            <a:avLst/>
            <a:gdLst/>
            <a:ahLst/>
            <a:rect l="l" t="t" r="r" b="b"/>
            <a:pathLst>
              <a:path w="8955" h="1812">
                <a:moveTo>
                  <a:pt x="7541" y="15553"/>
                </a:moveTo>
                <a:cubicBezTo>
                  <a:pt x="7722" y="15530"/>
                  <a:pt x="7903" y="15501"/>
                  <a:pt x="8086" y="15478"/>
                </a:cubicBezTo>
                <a:cubicBezTo>
                  <a:pt x="8384" y="15440"/>
                  <a:pt x="8683" y="15417"/>
                  <a:pt x="8979" y="15379"/>
                </a:cubicBezTo>
                <a:cubicBezTo>
                  <a:pt x="9221" y="15348"/>
                  <a:pt x="9457" y="15303"/>
                  <a:pt x="9699" y="15280"/>
                </a:cubicBezTo>
                <a:cubicBezTo>
                  <a:pt x="9945" y="15257"/>
                  <a:pt x="10194" y="15243"/>
                  <a:pt x="10443" y="15255"/>
                </a:cubicBezTo>
                <a:cubicBezTo>
                  <a:pt x="10763" y="15270"/>
                  <a:pt x="11090" y="15279"/>
                  <a:pt x="11410" y="15304"/>
                </a:cubicBezTo>
                <a:cubicBezTo>
                  <a:pt x="11691" y="15326"/>
                  <a:pt x="11948" y="15315"/>
                  <a:pt x="12229" y="15304"/>
                </a:cubicBezTo>
                <a:cubicBezTo>
                  <a:pt x="12533" y="15293"/>
                  <a:pt x="12842" y="15261"/>
                  <a:pt x="13146" y="15280"/>
                </a:cubicBezTo>
                <a:cubicBezTo>
                  <a:pt x="13460" y="15299"/>
                  <a:pt x="13776" y="15305"/>
                  <a:pt x="14089" y="15329"/>
                </a:cubicBezTo>
                <a:cubicBezTo>
                  <a:pt x="14514" y="15362"/>
                  <a:pt x="14934" y="15442"/>
                  <a:pt x="15354" y="15503"/>
                </a:cubicBezTo>
                <a:cubicBezTo>
                  <a:pt x="15581" y="15536"/>
                  <a:pt x="15819" y="15564"/>
                  <a:pt x="16049" y="15553"/>
                </a:cubicBezTo>
                <a:cubicBezTo>
                  <a:pt x="16153" y="15548"/>
                  <a:pt x="16267" y="15540"/>
                  <a:pt x="16371" y="15528"/>
                </a:cubicBezTo>
                <a:cubicBezTo>
                  <a:pt x="16429" y="15509"/>
                  <a:pt x="16435" y="15500"/>
                  <a:pt x="16470" y="15503"/>
                </a:cubicBezTo>
                <a:cubicBezTo>
                  <a:pt x="16470" y="15706"/>
                  <a:pt x="16455" y="15914"/>
                  <a:pt x="16446" y="16123"/>
                </a:cubicBezTo>
                <a:cubicBezTo>
                  <a:pt x="16436" y="16372"/>
                  <a:pt x="16457" y="16628"/>
                  <a:pt x="16470" y="16867"/>
                </a:cubicBezTo>
                <a:cubicBezTo>
                  <a:pt x="16470" y="16900"/>
                  <a:pt x="16470" y="16917"/>
                  <a:pt x="16470" y="16942"/>
                </a:cubicBezTo>
                <a:cubicBezTo>
                  <a:pt x="16331" y="16972"/>
                  <a:pt x="16175" y="16997"/>
                  <a:pt x="16024" y="17016"/>
                </a:cubicBezTo>
                <a:cubicBezTo>
                  <a:pt x="15786" y="17046"/>
                  <a:pt x="15544" y="17059"/>
                  <a:pt x="15304" y="17066"/>
                </a:cubicBezTo>
                <a:cubicBezTo>
                  <a:pt x="15053" y="17073"/>
                  <a:pt x="14809" y="17044"/>
                  <a:pt x="14560" y="17041"/>
                </a:cubicBezTo>
                <a:cubicBezTo>
                  <a:pt x="14270" y="17038"/>
                  <a:pt x="13980" y="17042"/>
                  <a:pt x="13692" y="17016"/>
                </a:cubicBezTo>
                <a:cubicBezTo>
                  <a:pt x="13374" y="16987"/>
                  <a:pt x="13046" y="16974"/>
                  <a:pt x="12725" y="16991"/>
                </a:cubicBezTo>
                <a:cubicBezTo>
                  <a:pt x="12470" y="17005"/>
                  <a:pt x="12211" y="17020"/>
                  <a:pt x="11956" y="17041"/>
                </a:cubicBezTo>
                <a:cubicBezTo>
                  <a:pt x="11597" y="17071"/>
                  <a:pt x="11225" y="17089"/>
                  <a:pt x="10864" y="17066"/>
                </a:cubicBezTo>
                <a:cubicBezTo>
                  <a:pt x="10609" y="17050"/>
                  <a:pt x="10350" y="17038"/>
                  <a:pt x="10096" y="17016"/>
                </a:cubicBezTo>
                <a:cubicBezTo>
                  <a:pt x="9896" y="16999"/>
                  <a:pt x="9699" y="16983"/>
                  <a:pt x="9500" y="16966"/>
                </a:cubicBezTo>
                <a:cubicBezTo>
                  <a:pt x="9300" y="16949"/>
                  <a:pt x="9105" y="16918"/>
                  <a:pt x="8905" y="16892"/>
                </a:cubicBezTo>
                <a:cubicBezTo>
                  <a:pt x="8762" y="16873"/>
                  <a:pt x="8602" y="16849"/>
                  <a:pt x="8458" y="16842"/>
                </a:cubicBezTo>
                <a:cubicBezTo>
                  <a:pt x="8263" y="16832"/>
                  <a:pt x="8051" y="16824"/>
                  <a:pt x="7863" y="16818"/>
                </a:cubicBezTo>
                <a:cubicBezTo>
                  <a:pt x="7764" y="16815"/>
                  <a:pt x="7664" y="16821"/>
                  <a:pt x="7565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1760" y="5803920"/>
            <a:ext cx="3187440" cy="63360"/>
          </a:xfrm>
          <a:custGeom>
            <a:avLst/>
            <a:gdLst/>
            <a:ahLst/>
            <a:rect l="l" t="t" r="r" b="b"/>
            <a:pathLst>
              <a:path w="8856" h="175">
                <a:moveTo>
                  <a:pt x="7615" y="16173"/>
                </a:moveTo>
                <a:cubicBezTo>
                  <a:pt x="7709" y="16167"/>
                  <a:pt x="7818" y="16176"/>
                  <a:pt x="7913" y="16173"/>
                </a:cubicBezTo>
                <a:cubicBezTo>
                  <a:pt x="8102" y="16166"/>
                  <a:pt x="8294" y="16162"/>
                  <a:pt x="8483" y="16148"/>
                </a:cubicBezTo>
                <a:cubicBezTo>
                  <a:pt x="8599" y="16139"/>
                  <a:pt x="8712" y="16116"/>
                  <a:pt x="8830" y="16123"/>
                </a:cubicBezTo>
                <a:cubicBezTo>
                  <a:pt x="8902" y="16127"/>
                  <a:pt x="8957" y="16140"/>
                  <a:pt x="9029" y="16148"/>
                </a:cubicBezTo>
                <a:cubicBezTo>
                  <a:pt x="9195" y="16166"/>
                  <a:pt x="9338" y="16152"/>
                  <a:pt x="9500" y="16148"/>
                </a:cubicBezTo>
                <a:cubicBezTo>
                  <a:pt x="10303" y="16127"/>
                  <a:pt x="11105" y="16173"/>
                  <a:pt x="11906" y="16173"/>
                </a:cubicBezTo>
                <a:cubicBezTo>
                  <a:pt x="12173" y="16173"/>
                  <a:pt x="12437" y="16173"/>
                  <a:pt x="12700" y="16197"/>
                </a:cubicBezTo>
                <a:cubicBezTo>
                  <a:pt x="12865" y="16212"/>
                  <a:pt x="13030" y="16209"/>
                  <a:pt x="13196" y="16222"/>
                </a:cubicBezTo>
                <a:cubicBezTo>
                  <a:pt x="13330" y="16232"/>
                  <a:pt x="13457" y="16245"/>
                  <a:pt x="13593" y="16247"/>
                </a:cubicBezTo>
                <a:cubicBezTo>
                  <a:pt x="13745" y="16249"/>
                  <a:pt x="13920" y="16277"/>
                  <a:pt x="14064" y="16272"/>
                </a:cubicBezTo>
                <a:cubicBezTo>
                  <a:pt x="14153" y="16269"/>
                  <a:pt x="14271" y="16256"/>
                  <a:pt x="14362" y="16247"/>
                </a:cubicBezTo>
                <a:cubicBezTo>
                  <a:pt x="14488" y="16234"/>
                  <a:pt x="14605" y="16224"/>
                  <a:pt x="14734" y="16222"/>
                </a:cubicBezTo>
                <a:cubicBezTo>
                  <a:pt x="14885" y="16220"/>
                  <a:pt x="15033" y="16242"/>
                  <a:pt x="15180" y="16247"/>
                </a:cubicBezTo>
                <a:cubicBezTo>
                  <a:pt x="15312" y="16252"/>
                  <a:pt x="15450" y="16266"/>
                  <a:pt x="15577" y="16272"/>
                </a:cubicBezTo>
                <a:cubicBezTo>
                  <a:pt x="15708" y="16278"/>
                  <a:pt x="15851" y="16291"/>
                  <a:pt x="15974" y="16297"/>
                </a:cubicBezTo>
                <a:cubicBezTo>
                  <a:pt x="16072" y="16302"/>
                  <a:pt x="16157" y="16267"/>
                  <a:pt x="16247" y="16272"/>
                </a:cubicBezTo>
                <a:cubicBezTo>
                  <a:pt x="16308" y="16275"/>
                  <a:pt x="16362" y="16294"/>
                  <a:pt x="16421" y="16297"/>
                </a:cubicBezTo>
                <a:cubicBezTo>
                  <a:pt x="16437" y="16297"/>
                  <a:pt x="16454" y="16297"/>
                  <a:pt x="16470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6:37:11Z</dcterms:created>
  <dc:creator>ccps</dc:creator>
  <dc:description/>
  <dc:language>en-US</dc:language>
  <cp:lastModifiedBy>deanne elizabeth mcgrath</cp:lastModifiedBy>
  <dcterms:modified xsi:type="dcterms:W3CDTF">2010-09-13T17:48:14Z</dcterms:modified>
  <cp:revision>6</cp:revision>
  <dc:subject/>
  <dc:title>Obj 7.7:  To write and evaluate function rules.</dc:title>
</cp:coreProperties>
</file>